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7/16/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se performance degrading o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/etc/passwd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magic script usage; explain strict locking, reference items such as MS Access file locking and similar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al notes on the abundance of user/developer feedback, describe personal experiences on questions and answer sessions, direct developer su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929E-FF3D-46D4-98F8-75D6BEE9D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E69E-ACAE-4B91-9667-53B94391A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F503-B749-4AB1-9532-C0665FBF5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CFA9-BED7-4445-A24A-8023A0AB5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8674B-6783-4757-98B2-B1F74E267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5BA9B-9674-49C3-9833-F99707152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DA9D2-6895-43F3-9A50-5C79E9887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4FC83-3558-464E-9BE8-7958F4647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6B177-F77B-446F-8C86-8812FE1A1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F3B6E-1627-4B75-9A4E-932F53038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BFD2A-0C32-4FB8-9F02-682804D4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8C94-6159-41FC-8120-1DCA6DECA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0FD5F-8532-4A07-8E76-8FD32497D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0ED25-F4DC-467E-AF35-8784FB99E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05388-E941-4B04-BB7B-8936D6BE0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37485-D46C-4138-8DD3-AA5C35662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CDFEF-169A-46F6-BE3D-1E6D95F23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5863-4049-421F-8818-64A42D298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2E0A-FAFB-478C-830C-75F69C6FD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EA26-4C16-46B9-8DD0-2ABFF9554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CBC8-692C-4E76-8588-66EEFFF9E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D307-F8F0-4F03-A610-7934FF439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C118-C9F6-437B-B773-73A87F881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DE44-5BCA-4906-A628-D637307BC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9FED2-9455-4B06-B0E1-8A3F0C15BAC3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8F543-08DB-420C-A33A-65D1DE172A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DE410-36ED-4AA1-93B9-EE482A0E7E99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A42E5-462F-41A7-BCA0-E8AFABC294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amba Integr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rian Robers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LUG meeting, April 1999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2F6B6698-8885-483B-8335-75391DB67AC9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6AD43E-F73C-486D-B212-0B85A88FCA3D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erv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another SMB server for authentic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query fails, reverts to security = 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encrypted passwords were negotiated, will not revert to use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73CC44-1A40-43BC-8A51-A866CD6DC5D8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A9D715-24C5-405A-8A88-78941111E1FD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domai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ill only work if `smbpasswd` was used to add machine to a 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nly accepts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alidates users exactly the same as NT does, against a PDC or BDC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urrent problem with multi-byte character set usernam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59363C-E96B-42DC-A77D-0C6CB035E57A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nfiguration File Layou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pecial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ice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0FBC91-B7A7-4DAE-A398-9DBB88F4C160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pecial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global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home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printer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28BDC0-4063-4C26-ACED-B4D6DA710883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global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ptions apply to server as a who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ny service parameter can be specified in the global section, they will serve as the ‘default’ for all servic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ad time &amp; keep alive, widelinks &amp; getwd cache, socket options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D47DD8-9A5C-4164-9723-8A63AD223CF3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home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hen connection request is made, If no match is found, its treated as a username and looked up in the local /etc/password file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guest access is specified, all home directories are visi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17E3E8-F22A-483D-A542-B4F1F9903B84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printer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nection sequence; scan existing sections, if [homes] section exists, used as previously described, request then treated as printer name and appropriate printcap file is scanned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e to use `lpstat` in place of /etc/printcap ( SYSV / LPRng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F78540-9F13-4279-A101-35671A67B2CB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Ordinary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A84B1D-91BB-4A70-A486-1970A3F31A46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tegration Of Samb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uthentication schem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figuration File Layou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s ( Services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3D52BA-CC84-4DBD-A582-C2C864AC6994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whatever you want to show up as a comment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synonym for “guest ok” ( allow this share to be readable by other than valid users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ublic = no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se people are allowed to read (open)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name1, name 2, @group2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these people are in @group2 but we don’t want to give them acces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nvalid users = name3, name5, @group1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llow this service to be written to, by valid 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is is not a printable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who is allowed to write to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e list = name1, @group2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 next two options are to change the Unix modes when files/directories are made.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file creation ( we want the group to be able to edit it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create mode = 0660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directory made in this share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( we want the group to be able to get it/change it, and world `cd`abl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directory mode = 077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768351-AAEC-484F-ABB2-8C3201CA16D3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2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servicename2, put you want he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uest ok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@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fter mapping from DOS modes to UNIX permissions, bit-wise `AND`ed  the permissions with these valu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default create mask is: 0744 , default directory create mask is: 075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 e.g. we want these to be read/written/viewed by user only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irectory 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C09055-B2F9-4F7C-AD73-0E4438883138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lete readonl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eto fil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styp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magic scrip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trict lockin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F84092-0BD5-47FE-B90D-14A94BC17967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QUESTIONS &amp; ANSW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 are your frien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enty of online document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y the best user/developer suppor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B8241E-C97E-4055-A483-13DC4F97267A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ttp://www.samba.or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cumentation in the source cod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4704E1-44A6-409D-A421-A4C20A4EF7D9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B39E00-9398-426A-85D4-9E35FD79B11D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CDD8CD-BFBA-4EB8-876D-B8C45A47A0B4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har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revious versions, this was defaul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amba always uses a valid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ral techniques to determine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user cant be determined, the “guest” account if supplied gets use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F034B9-0325-4295-950F-498C83216A1E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AB4BE0-4F80-4007-A3F2-ACB02089870E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us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fault selection in 2.0.x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 must “logon” to gain access to a 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ncrypted passwords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ee next two slid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80649B-1BFA-4EE6-ABCF-8A0EBDB911DA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eparate password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assword storage is not one way crypt like standard UNIX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95 OSR2, NT4sp3 &amp; up, default’s to only send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ain text passwords are never sent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6CC95A-F146-424F-A6F8-7CD154E4974B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pecial registry entry on client (win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/etc/passwd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nds plain text passwords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sure if future win-X will support this fea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F66225-7DB1-4CCF-9B2E-152CEA6D2DEA}" type="datetime1">
              <a:rPr lang="en-US"/>
              <a:t>07/31/26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7T08:14:35Z</dcterms:created>
  <dc:creator>Brian Roberson</dc:creator>
  <dc:description/>
  <cp:keywords>Brief Samba Presentation</cp:keywords>
  <dc:language>en-US</dc:language>
  <cp:lastModifiedBy>Brian Roberson</cp:lastModifiedBy>
  <dcterms:modified xsi:type="dcterms:W3CDTF">1999-04-19T01:16:12Z</dcterms:modified>
  <cp:revision>13</cp:revision>
  <dc:subject>Overview of Options</dc:subject>
  <dc:title>Samba Integ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bstc.net/~brian</vt:lpwstr>
  </property>
  <property fmtid="{D5CDD505-2E9C-101B-9397-08002B2CF9AE}" pid="9" name="LinkColor">
    <vt:r8>16711782</vt:r8>
  </property>
  <property fmtid="{D5CDD505-2E9C-101B-9397-08002B2CF9AE}" pid="10" name="MailAddress">
    <vt:lpwstr>brian@bstc.net</vt:lpwstr>
  </property>
  <property fmtid="{D5CDD505-2E9C-101B-9397-08002B2CF9AE}" pid="11" name="NavBtnPos">
    <vt:r8>3</vt:r8>
  </property>
  <property fmtid="{D5CDD505-2E9C-101B-9397-08002B2CF9AE}" pid="12" name="Other">
    <vt:lpwstr>OLUG presentation</vt:lpwstr>
  </property>
  <property fmtid="{D5CDD505-2E9C-101B-9397-08002B2CF9AE}" pid="13" name="OutputDir">
    <vt:lpwstr>\\Beast\html\slides</vt:lpwstr>
  </property>
  <property fmtid="{D5CDD505-2E9C-101B-9397-08002B2CF9AE}" pid="14" name="Owner">
    <vt:lpwstr>PUBLIC-GNU-GPL</vt:lpwstr>
  </property>
  <property fmtid="{D5CDD505-2E9C-101B-9397-08002B2CF9AE}" pid="15" name="Purpose">
    <vt:lpwstr>OLUG Meeting, April 1999</vt:lpwstr>
  </property>
  <property fmtid="{D5CDD505-2E9C-101B-9397-08002B2CF9AE}" pid="16" name="Reference">
    <vt:lpwstr>Man Pages, source code</vt:lpwstr>
  </property>
  <property fmtid="{D5CDD505-2E9C-101B-9397-08002B2CF9AE}" pid="17" name="ScreenSize">
    <vt:r8>1</vt:r8>
  </property>
  <property fmtid="{D5CDD505-2E9C-101B-9397-08002B2CF9AE}" pid="18" name="ScreenUsage">
    <vt:r8>1</vt:r8>
  </property>
  <property fmtid="{D5CDD505-2E9C-101B-9397-08002B2CF9AE}" pid="19" name="ShowNotes">
    <vt:bool>0</vt:bool>
  </property>
  <property fmtid="{D5CDD505-2E9C-101B-9397-08002B2CF9AE}" pid="20" name="Source">
    <vt:lpwstr>Samba Man Pages, and various other documentation included in the samba source code</vt:lpwstr>
  </property>
  <property fmtid="{D5CDD505-2E9C-101B-9397-08002B2CF9AE}" pid="21" name="TemplateType">
    <vt:r8>1</vt:r8>
  </property>
  <property fmtid="{D5CDD505-2E9C-101B-9397-08002B2CF9AE}" pid="22" name="TextColor">
    <vt:r8>0</vt:r8>
  </property>
  <property fmtid="{D5CDD505-2E9C-101B-9397-08002B2CF9AE}" pid="23" name="TransparentButton">
    <vt:r8>0</vt:r8>
  </property>
  <property fmtid="{D5CDD505-2E9C-101B-9397-08002B2CF9AE}" pid="24" name="UseBrowserColor">
    <vt:bool>1</vt:bool>
  </property>
  <property fmtid="{D5CDD505-2E9C-101B-9397-08002B2CF9AE}" pid="25" name="VisitedColor">
    <vt:r8>10040268</vt:r8>
  </property>
</Properties>
</file>