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jpeg" ContentType="image/jpe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move the slide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F61AF2-A94F-487C-BD11-0F0C3B849F4D}" type="slidenum">
              <a:rPr b="0" lang="ja-JP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MVCC:</a:t>
            </a: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マルチユーザ環境における データベースの性能を向上させる高度な技術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8D3A6-76AE-4A2C-ABB4-25A48361B8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12E6A-7459-48A5-98D9-D4B352E6F7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65F58-8D5B-4260-B8D1-B801926E6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DE704-317F-434A-B5AE-511FF9E3A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EC5E3-6FC6-43B1-879D-00714F8F5B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653F2B-161E-4235-8BA4-CD44962C3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2FA48-EEBF-40A7-8CB7-D2C8D7A1D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EA037E-373B-4E37-ADC3-0F8DACE45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3147B-D019-42C7-81C9-5C3B5567F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E9C57-C1D5-4617-93A3-C8E59EA7DD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67F678-834A-4848-958F-B28E8B76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0FA1-CFAC-4B3B-80CE-6949F8B8B6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1DFCDF-8F21-4586-A111-13F171CC1A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261BA0-AAFC-4196-AFA1-54837B35EB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AA5BD5-E7FF-4550-8ACD-AB4C061E8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F0D11-64FE-4E77-A2CF-69289C886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F7FD06-54FE-4355-8478-211A4B33FC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B504E64-0DF0-4604-BBE7-71FB88C9C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subTitle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180C16F-1045-4721-A424-6B106B937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EEB80FA-AC90-4071-8A14-57B7A517A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B3F8BD-D2A5-4398-942F-0FA8890EC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FAE4A4-0FD8-4049-B2FE-6D8FEE8367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C1104-6FDE-4219-A6C7-0D20E43086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E5EA7A-518E-4DB2-A61A-84CD53AA23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A6D757E-F7A6-4929-A7A3-621114968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12547B-3AD3-4DFE-91F8-0364F8F9F6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473496-0BFB-4C88-B74A-27A2493BC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E26227-8877-4951-903D-E439C7662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PlaceHolder 5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5C8D0E-BBCF-4608-A6CB-BC231AA5CB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323964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022080" y="171936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5720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6"/>
          <p:cNvSpPr>
            <a:spLocks noGrp="1"/>
          </p:cNvSpPr>
          <p:nvPr>
            <p:ph/>
          </p:nvPr>
        </p:nvSpPr>
        <p:spPr>
          <a:xfrm>
            <a:off x="323964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7"/>
          <p:cNvSpPr>
            <a:spLocks noGrp="1"/>
          </p:cNvSpPr>
          <p:nvPr>
            <p:ph/>
          </p:nvPr>
        </p:nvSpPr>
        <p:spPr>
          <a:xfrm>
            <a:off x="6022080" y="4023720"/>
            <a:ext cx="264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B8DB73-CC5A-44B3-AB98-7A5ADC0E1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BA427-5158-4A16-8A19-43CEA4C827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29729-42B1-47BF-9000-F1746ACA5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6840" y="122400"/>
            <a:ext cx="7543800" cy="600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43C16-7222-4346-96D0-1C02C908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6902B-6949-4399-AF11-73AA3BBDAF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402372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5BC5D-BF7C-4BE3-BA1A-0B296348CA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719360"/>
            <a:ext cx="40158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23720"/>
            <a:ext cx="8229600" cy="210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6CE9F-80FA-41DA-84D0-DBC306567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962840" y="152280"/>
            <a:ext cx="0" cy="1524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719360"/>
            <a:ext cx="8229600" cy="441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51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-29376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81240" indent="-292320">
              <a:spcBef>
                <a:spcPts val="751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598760" indent="-316080">
              <a:spcBef>
                <a:spcPts val="751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598760" indent="-316080">
              <a:spcBef>
                <a:spcPts val="751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DFF6D-84A7-44FE-9129-DC6F663B6B90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6" name=""/>
          <p:cNvGrpSpPr/>
          <p:nvPr/>
        </p:nvGrpSpPr>
        <p:grpSpPr>
          <a:xfrm>
            <a:off x="8153280" y="152280"/>
            <a:ext cx="792000" cy="1295280"/>
            <a:chOff x="8153280" y="152280"/>
            <a:chExt cx="792000" cy="1295280"/>
          </a:xfrm>
        </p:grpSpPr>
        <p:sp>
          <p:nvSpPr>
            <p:cNvPr id="7" name=""/>
            <p:cNvSpPr/>
            <p:nvPr/>
          </p:nvSpPr>
          <p:spPr>
            <a:xfrm>
              <a:off x="815328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832104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8489160" y="15228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815328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832104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489160" y="32004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657280" y="320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15328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8321040" y="48816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848916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8657280" y="488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8825400" y="488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8153280" y="655920"/>
              <a:ext cx="119880" cy="11988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832104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8489160" y="65592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657280" y="65592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815328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8321040" y="82404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848916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8657280" y="82404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8825400" y="82404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8153280" y="992160"/>
              <a:ext cx="119880" cy="11988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832104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8489160" y="992160"/>
              <a:ext cx="119880" cy="11988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8657280" y="992160"/>
              <a:ext cx="119880" cy="11988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520" bIns="3852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815328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8321040" y="1159920"/>
              <a:ext cx="119880" cy="11952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848916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8657280" y="115992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832104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8657280" y="1328040"/>
              <a:ext cx="119880" cy="11952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8160" bIns="3816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315200" y="1066680"/>
            <a:ext cx="0" cy="44960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ccccff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AFD33B-C948-47FD-A3EA-77936D6AC89B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7493040" y="2992320"/>
            <a:ext cx="1337760" cy="2189160"/>
            <a:chOff x="7493040" y="2992320"/>
            <a:chExt cx="1337760" cy="2189160"/>
          </a:xfrm>
        </p:grpSpPr>
        <p:sp>
          <p:nvSpPr>
            <p:cNvPr id="80" name=""/>
            <p:cNvSpPr/>
            <p:nvPr/>
          </p:nvSpPr>
          <p:spPr>
            <a:xfrm>
              <a:off x="749304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77708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8061120" y="29923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749304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777708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8061120" y="327672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8345160" y="327672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749304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777080" y="3560760"/>
              <a:ext cx="201240" cy="20160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806112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345160" y="356076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8629560" y="356076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7493040" y="3843360"/>
              <a:ext cx="201240" cy="203040"/>
            </a:xfrm>
            <a:prstGeom prst="ellipse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777708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061120" y="3843360"/>
              <a:ext cx="201240" cy="20304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345160" y="3843360"/>
              <a:ext cx="201240" cy="20304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749304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7777080" y="4127400"/>
              <a:ext cx="201240" cy="2034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806112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8345160" y="4127400"/>
              <a:ext cx="201240" cy="2034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8629560" y="4127400"/>
              <a:ext cx="201240" cy="2034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7493040" y="4411800"/>
              <a:ext cx="201240" cy="201600"/>
            </a:xfrm>
            <a:prstGeom prst="ellipse">
              <a:avLst/>
            </a:prstGeom>
            <a:solidFill>
              <a:srgbClr val="6666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777708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8061120" y="441180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8345160" y="441180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49304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777080" y="4695840"/>
              <a:ext cx="201240" cy="201600"/>
            </a:xfrm>
            <a:prstGeom prst="ellipse">
              <a:avLst/>
            </a:prstGeom>
            <a:solidFill>
              <a:srgbClr val="4f89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806112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8345160" y="469584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77708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8345160" y="4979880"/>
              <a:ext cx="201240" cy="201600"/>
            </a:xfrm>
            <a:prstGeom prst="ellipse">
              <a:avLst/>
            </a:prstGeom>
            <a:solidFill>
              <a:srgbClr val="4837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304920" y="2819520"/>
            <a:ext cx="8229600" cy="0"/>
          </a:xfrm>
          <a:prstGeom prst="line">
            <a:avLst/>
          </a:prstGeom>
          <a:ln w="64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34452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2" marL="693720" algn="ctr">
              <a:spcBef>
                <a:spcPts val="575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lvl="3" marL="988920" algn="ctr">
              <a:spcBef>
                <a:spcPts val="499"/>
              </a:spcBef>
              <a:buClr>
                <a:srgbClr val="ccccff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282680" algn="ctr">
              <a:spcBef>
                <a:spcPts val="499"/>
              </a:spcBef>
              <a:buClr>
                <a:srgbClr val="4837c7"/>
              </a:buClr>
              <a:buSzPct val="8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282680">
              <a:spcBef>
                <a:spcPts val="499"/>
              </a:spcBef>
              <a:buClr>
                <a:srgbClr val="ffffff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D1A2A-5DE4-4E24-969F-772EACFFC4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-106.ibm.com/developerworks/xml/library/x-xdnat.html" TargetMode="External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sourceforge.net/projects/dbdom/" TargetMode="External"/><Relationship Id="rId2" Type="http://schemas.openxmlformats.org/officeDocument/2006/relationships/hyperlink" Target="http://sourceforge.net/projects/dbdom/" TargetMode="External"/><Relationship Id="rId3" Type="http://schemas.openxmlformats.org/officeDocument/2006/relationships/hyperlink" Target="http://sourceforge.net/projects/dbdom/" TargetMode="External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16080" y="466200"/>
            <a:ext cx="678168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PostgreSQ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を用いた</a:t>
            </a:r>
            <a:br>
              <a:rPr sz="4000"/>
            </a:b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XML</a:t>
            </a:r>
            <a:r>
              <a:rPr b="1" lang="ja-JP" sz="4000" spc="-1" strike="noStrike">
                <a:solidFill>
                  <a:srgbClr val="ccccff"/>
                </a:solidFill>
                <a:latin typeface="Arial"/>
              </a:rPr>
              <a:t>データベース環境の構築</a:t>
            </a:r>
            <a:r>
              <a:rPr b="1" lang="ja-JP" sz="4800" spc="-1" strike="noStrike">
                <a:solidFill>
                  <a:srgbClr val="ccccff"/>
                </a:solidFill>
                <a:latin typeface="Arial"/>
              </a:rPr>
              <a:t> </a:t>
            </a:r>
            <a:endParaRPr b="1" lang="en-US" sz="48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5003640" y="5733720"/>
            <a:ext cx="1927440" cy="56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</a:rPr>
              <a:t>油井 誠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826920" y="3716280"/>
            <a:ext cx="1949760" cy="148608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395280" y="5661000"/>
            <a:ext cx="3240000" cy="703800"/>
          </a:xfrm>
          <a:prstGeom prst="rect">
            <a:avLst/>
          </a:prstGeom>
          <a:solidFill>
            <a:srgbClr val="99cc0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ソフトウェア創生事業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　　　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H14</a:t>
            </a:r>
            <a:r>
              <a:rPr b="0" lang="zh-CN" sz="2000" spc="-1" strike="noStrike">
                <a:solidFill>
                  <a:srgbClr val="a50021"/>
                </a:solidFill>
                <a:latin typeface="Arial"/>
              </a:rPr>
              <a:t>未踏</a:t>
            </a:r>
            <a:r>
              <a:rPr b="0" lang="en-US" sz="2000" spc="-1" strike="noStrike">
                <a:solidFill>
                  <a:srgbClr val="a50021"/>
                </a:solidFill>
                <a:latin typeface="Arial"/>
              </a:rPr>
              <a:t>You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ccccff"/>
                </a:solidFill>
                <a:latin typeface="Arial"/>
              </a:rPr>
              <a:t>Decompose XML into relations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24000" y="2565360"/>
            <a:ext cx="3311280" cy="1557000"/>
          </a:xfrm>
          <a:prstGeom prst="rect">
            <a:avLst/>
          </a:prstGeom>
          <a:solidFill>
            <a:srgbClr val="8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student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o&gt;L02123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name&gt;</a:t>
            </a:r>
            <a:r>
              <a:rPr b="0" lang="zh-CN" sz="2400" spc="-1" strike="noStrike">
                <a:solidFill>
                  <a:srgbClr val="ffffff"/>
                </a:solidFill>
                <a:latin typeface="Tahoma"/>
              </a:rPr>
              <a:t>油井誠</a:t>
            </a: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&lt;/&gt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258920" y="1989000"/>
            <a:ext cx="108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ahoma"/>
              </a:rPr>
              <a:t>X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55" name=""/>
          <p:cNvGraphicFramePr/>
          <p:nvPr/>
        </p:nvGraphicFramePr>
        <p:xfrm>
          <a:off x="4643280" y="4869000"/>
          <a:ext cx="3961080" cy="352440"/>
        </p:xfrm>
        <a:graphic>
          <a:graphicData uri="http://schemas.openxmlformats.org/drawingml/2006/table">
            <a:tbl>
              <a:tblPr/>
              <a:tblGrid>
                <a:gridCol w="792360"/>
                <a:gridCol w="1079640"/>
                <a:gridCol w="865080"/>
                <a:gridCol w="1224000"/>
              </a:tblGrid>
              <a:tr h="353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ar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ontent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56" name=""/>
          <p:cNvSpPr/>
          <p:nvPr/>
        </p:nvSpPr>
        <p:spPr>
          <a:xfrm>
            <a:off x="4250880" y="3979800"/>
            <a:ext cx="1991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2000" spc="-1" strike="noStrike">
                <a:solidFill>
                  <a:srgbClr val="ffffff"/>
                </a:solidFill>
                <a:latin typeface="Tahoma"/>
              </a:rPr>
              <a:t>RDB(postgre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1523880" y="4267080"/>
            <a:ext cx="152640" cy="533520"/>
          </a:xfrm>
          <a:prstGeom prst="upDownArrow">
            <a:avLst>
              <a:gd name="adj1" fmla="val 50000"/>
              <a:gd name="adj2" fmla="val 69582"/>
            </a:avLst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563760" y="6308640"/>
            <a:ext cx="228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木構造で現したも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6248520" y="2666880"/>
            <a:ext cx="304560" cy="457200"/>
          </a:xfrm>
          <a:prstGeom prst="downArrow">
            <a:avLst>
              <a:gd name="adj1" fmla="val 50000"/>
              <a:gd name="adj2" fmla="val 37530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227640" y="3860640"/>
            <a:ext cx="304920" cy="762120"/>
          </a:xfrm>
          <a:prstGeom prst="downArrow">
            <a:avLst>
              <a:gd name="adj1" fmla="val 50000"/>
              <a:gd name="adj2" fmla="val 62485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718720" y="5013360"/>
            <a:ext cx="1514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1)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リレーションに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格納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203640" y="5734080"/>
            <a:ext cx="990360" cy="304920"/>
          </a:xfrm>
          <a:prstGeom prst="rightArrow">
            <a:avLst>
              <a:gd name="adj1" fmla="val 50000"/>
              <a:gd name="adj2" fmla="val 81198"/>
            </a:avLst>
          </a:prstGeom>
          <a:solidFill>
            <a:srgbClr val="4837c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419720" y="4495680"/>
            <a:ext cx="4419360" cy="2133720"/>
          </a:xfrm>
          <a:prstGeom prst="can">
            <a:avLst>
              <a:gd name="adj" fmla="val 13393"/>
            </a:avLst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294160" y="1887480"/>
            <a:ext cx="2372040" cy="520200"/>
          </a:xfrm>
          <a:prstGeom prst="ellipse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pplicatio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6615000" y="2637000"/>
            <a:ext cx="2529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2)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としてアクセス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588000" y="3933720"/>
            <a:ext cx="100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3)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1187280" y="508464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666699">
              <a:alpha val="65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Studen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33440" y="5877000"/>
            <a:ext cx="9316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8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900000" y="537228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2360" y="5877000"/>
            <a:ext cx="1079280" cy="287280"/>
          </a:xfrm>
          <a:prstGeom prst="roundRect">
            <a:avLst>
              <a:gd name="adj" fmla="val 16667"/>
            </a:avLst>
          </a:prstGeom>
          <a:solidFill>
            <a:srgbClr val="666699">
              <a:alpha val="7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Comic Sans MS"/>
              </a:rPr>
              <a:t>nam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flipH="1" flipV="1">
            <a:off x="1692360" y="537228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763640" y="456732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273" name=""/>
          <p:cNvGraphicFramePr/>
          <p:nvPr/>
        </p:nvGraphicFramePr>
        <p:xfrm>
          <a:off x="4643280" y="522936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-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4" name=""/>
          <p:cNvGraphicFramePr/>
          <p:nvPr/>
        </p:nvGraphicFramePr>
        <p:xfrm>
          <a:off x="4643280" y="5661000"/>
          <a:ext cx="3960720" cy="41760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02123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275" name=""/>
          <p:cNvGraphicFramePr/>
          <p:nvPr/>
        </p:nvGraphicFramePr>
        <p:xfrm>
          <a:off x="4643280" y="6093000"/>
          <a:ext cx="3960720" cy="417240"/>
        </p:xfrm>
        <a:graphic>
          <a:graphicData uri="http://schemas.openxmlformats.org/drawingml/2006/table">
            <a:tbl>
              <a:tblPr/>
              <a:tblGrid>
                <a:gridCol w="792360"/>
                <a:gridCol w="1079280"/>
                <a:gridCol w="865080"/>
                <a:gridCol w="1224000"/>
              </a:tblGrid>
              <a:tr h="417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25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油井誠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6" name=""/>
          <p:cNvSpPr/>
          <p:nvPr/>
        </p:nvSpPr>
        <p:spPr>
          <a:xfrm>
            <a:off x="179280" y="5430960"/>
            <a:ext cx="38592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340000" y="5359320"/>
            <a:ext cx="385560" cy="476280"/>
          </a:xfrm>
          <a:prstGeom prst="ellipse">
            <a:avLst/>
          </a:prstGeom>
          <a:solidFill>
            <a:srgbClr val="ff0000">
              <a:alpha val="49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5238000" y="3213000"/>
            <a:ext cx="2381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6600"/>
                </a:solidFill>
                <a:latin typeface="HGP創英角ﾎﾟｯﾌﾟ体"/>
                <a:ea typeface="HGP創英角ﾎﾟｯﾌﾟ体"/>
              </a:rPr>
              <a:t>DOM XPath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indefinite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の例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323640" y="1915920"/>
            <a:ext cx="6553080" cy="433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6922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● 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が利用可能な場合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XPath(“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芝浦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情報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/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学生</a:t>
            </a:r>
            <a:r>
              <a:rPr b="0" lang="ja-JP" sz="3000" spc="-1" strike="noStrike">
                <a:solidFill>
                  <a:srgbClr val="ffffff"/>
                </a:solidFill>
                <a:latin typeface="ＭＳ Ｐゴシック"/>
              </a:rPr>
              <a:t>[2]”)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554688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 flipV="1">
            <a:off x="6013440" y="4437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5214960" y="5734080"/>
            <a:ext cx="3301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588024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54516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flipH="1">
            <a:off x="5348160" y="5229360"/>
            <a:ext cx="665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6013440" y="5229360"/>
            <a:ext cx="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6013440" y="5229360"/>
            <a:ext cx="6634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6672960" y="2131920"/>
            <a:ext cx="1842840" cy="642600"/>
          </a:xfrm>
          <a:prstGeom prst="rect">
            <a:avLst/>
          </a:prstGeom>
          <a:solidFill>
            <a:srgbClr val="c0c0c0">
              <a:alpha val="34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情報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学生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[2]</a:t>
            </a:r>
            <a:br>
              <a:rPr sz="1800"/>
            </a:b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順序を用いた検索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6805440" y="4941720"/>
            <a:ext cx="93204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通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 flipH="1" flipV="1">
            <a:off x="6516720" y="4437000"/>
            <a:ext cx="6825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651640" y="5518080"/>
            <a:ext cx="720720" cy="792360"/>
          </a:xfrm>
          <a:prstGeom prst="ellipse">
            <a:avLst/>
          </a:prstGeom>
          <a:solidFill>
            <a:srgbClr val="3366ff">
              <a:alpha val="1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59636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7380360" y="522936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6049800" y="4149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工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 flipV="1">
            <a:off x="6516720" y="3645000"/>
            <a:ext cx="719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7308720" y="4149720"/>
            <a:ext cx="107964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システム学部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H="1" flipV="1">
            <a:off x="7308720" y="3645000"/>
            <a:ext cx="503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 flipH="1" flipV="1">
            <a:off x="7956360" y="4437000"/>
            <a:ext cx="4316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853272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532720" y="5229360"/>
            <a:ext cx="1447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35920" y="5013360"/>
            <a:ext cx="3835080" cy="1008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芝浦の子孫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情報の子供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(/)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学生の左から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2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番目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[2]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6804000" y="3357720"/>
            <a:ext cx="93204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芝浦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508720" y="4941720"/>
            <a:ext cx="100800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956720" y="4941720"/>
            <a:ext cx="931680" cy="28764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情報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7093080" y="5734080"/>
            <a:ext cx="331560" cy="28728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 flipH="1">
            <a:off x="7237080" y="5229360"/>
            <a:ext cx="14292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867280" y="5734080"/>
            <a:ext cx="331920" cy="287280"/>
          </a:xfrm>
          <a:prstGeom prst="roundRect">
            <a:avLst>
              <a:gd name="adj" fmla="val 16667"/>
            </a:avLst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ffffff"/>
                </a:solidFill>
                <a:latin typeface="Comic Sans MS"/>
              </a:rPr>
              <a:t>学生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39640" y="1916280"/>
            <a:ext cx="8317080" cy="520560"/>
          </a:xfrm>
          <a:prstGeom prst="rect">
            <a:avLst/>
          </a:prstGeom>
          <a:solidFill>
            <a:srgbClr val="4837c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は、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データを表す木構造をたどることで、 要素や属性といったデータを抽出するための言語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212400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3203640" y="3139920"/>
            <a:ext cx="86364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4720" y="3139920"/>
            <a:ext cx="1224000" cy="720720"/>
          </a:xfrm>
          <a:prstGeom prst="rect">
            <a:avLst/>
          </a:prstGeom>
          <a:noFill/>
          <a:ln w="19080">
            <a:solidFill>
              <a:srgbClr val="cc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484360" y="4292640"/>
            <a:ext cx="2160720" cy="368280"/>
          </a:xfrm>
          <a:prstGeom prst="rect">
            <a:avLst/>
          </a:prstGeom>
          <a:solidFill>
            <a:srgbClr val="c0c0c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15192b"/>
                </a:solidFill>
                <a:latin typeface="Arial"/>
              </a:rPr>
              <a:t>ロケーションステップ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1384200" y="6237360"/>
            <a:ext cx="360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・・・</a:t>
            </a:r>
            <a:r>
              <a:rPr b="0" lang="zh-CN" sz="1800" spc="-1" strike="noStrike">
                <a:solidFill>
                  <a:srgbClr val="cc3300"/>
                </a:solidFill>
                <a:latin typeface="Arial"/>
              </a:rPr>
              <a:t>ロケーションステップごとに順に解釈され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 flipH="1" flipV="1">
            <a:off x="2771280" y="3716280"/>
            <a:ext cx="505080" cy="50472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 flipV="1">
            <a:off x="3492360" y="3716280"/>
            <a:ext cx="71640" cy="43344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flipV="1">
            <a:off x="3635280" y="3789000"/>
            <a:ext cx="865440" cy="360360"/>
          </a:xfrm>
          <a:prstGeom prst="line">
            <a:avLst/>
          </a:prstGeom>
          <a:ln cap="rnd" w="19080">
            <a:solidFill>
              <a:srgbClr val="ffffff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4" dur="indefinite" restart="never" nodeType="tmRoot">
          <p:childTnLst>
            <p:seq>
              <p:cTn id="175" dur="indefinite" nodeType="mainSeq">
                <p:childTnLst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79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5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0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22" dur="10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122400"/>
            <a:ext cx="613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XPath </a:t>
            </a: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ロケーションステップ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pic>
        <p:nvPicPr>
          <p:cNvPr id="321" name="" descr=""/>
          <p:cNvPicPr/>
          <p:nvPr/>
        </p:nvPicPr>
        <p:blipFill>
          <a:blip r:embed="rId1"/>
          <a:stretch/>
        </p:blipFill>
        <p:spPr>
          <a:xfrm>
            <a:off x="755640" y="2205000"/>
            <a:ext cx="7777080" cy="2540160"/>
          </a:xfrm>
          <a:prstGeom prst="rect">
            <a:avLst/>
          </a:prstGeom>
          <a:ln w="0">
            <a:noFill/>
          </a:ln>
        </p:spPr>
      </p:pic>
      <p:sp>
        <p:nvSpPr>
          <p:cNvPr id="322" name=""/>
          <p:cNvSpPr/>
          <p:nvPr/>
        </p:nvSpPr>
        <p:spPr>
          <a:xfrm>
            <a:off x="250920" y="5805360"/>
            <a:ext cx="194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//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2955960" y="5950080"/>
            <a:ext cx="60278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芝浦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/descendant-or-self::node()/child::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情報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954360" y="5373720"/>
            <a:ext cx="72936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省略記法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268360" y="5950080"/>
            <a:ext cx="432000" cy="287280"/>
          </a:xfrm>
          <a:prstGeom prst="rightArrow">
            <a:avLst>
              <a:gd name="adj1" fmla="val 50000"/>
              <a:gd name="adj2" fmla="val 37594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123160" y="5388120"/>
            <a:ext cx="1594800" cy="368280"/>
          </a:xfrm>
          <a:prstGeom prst="rect">
            <a:avLst/>
          </a:prstGeom>
          <a:noFill/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展開した表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記法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9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5341320" y="5635800"/>
            <a:ext cx="2885760" cy="1069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Unix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階層型ファイルシステムでの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表記を拡張したイメージ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/usr/local/../lib/.*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1205640" y="5805360"/>
            <a:ext cx="2455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には、他、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8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全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12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種類の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Axis</a:t>
            </a: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が存在しま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1"/>
          <a:stretch/>
        </p:blipFill>
        <p:spPr>
          <a:xfrm>
            <a:off x="1042920" y="1125360"/>
            <a:ext cx="6624720" cy="4332600"/>
          </a:xfrm>
          <a:prstGeom prst="rect">
            <a:avLst/>
          </a:prstGeom>
          <a:ln w="0">
            <a:noFill/>
          </a:ln>
        </p:spPr>
      </p:pic>
      <p:sp>
        <p:nvSpPr>
          <p:cNvPr id="330" name=""/>
          <p:cNvSpPr/>
          <p:nvPr/>
        </p:nvSpPr>
        <p:spPr>
          <a:xfrm>
            <a:off x="2843280" y="260280"/>
            <a:ext cx="4033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 Axi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5600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2556000" y="407664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5867280" y="1989000"/>
            <a:ext cx="287280" cy="28764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5867280" y="4005360"/>
            <a:ext cx="287280" cy="287280"/>
          </a:xfrm>
          <a:prstGeom prst="ellipse">
            <a:avLst/>
          </a:prstGeom>
          <a:solidFill>
            <a:srgbClr val="ff66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2514600" y="1447920"/>
            <a:ext cx="485640" cy="530280"/>
          </a:xfrm>
          <a:custGeom>
            <a:avLst/>
            <a:gdLst/>
            <a:ahLst/>
            <a:rect l="l" t="t" r="r" b="b"/>
            <a:pathLst>
              <a:path w="306" h="334">
                <a:moveTo>
                  <a:pt x="163" y="326"/>
                </a:moveTo>
                <a:cubicBezTo>
                  <a:pt x="121" y="323"/>
                  <a:pt x="78" y="328"/>
                  <a:pt x="38" y="317"/>
                </a:cubicBezTo>
                <a:cubicBezTo>
                  <a:pt x="7" y="309"/>
                  <a:pt x="0" y="230"/>
                  <a:pt x="0" y="230"/>
                </a:cubicBezTo>
                <a:cubicBezTo>
                  <a:pt x="11" y="117"/>
                  <a:pt x="18" y="42"/>
                  <a:pt x="134" y="0"/>
                </a:cubicBezTo>
                <a:cubicBezTo>
                  <a:pt x="160" y="3"/>
                  <a:pt x="187" y="0"/>
                  <a:pt x="211" y="10"/>
                </a:cubicBezTo>
                <a:cubicBezTo>
                  <a:pt x="221" y="14"/>
                  <a:pt x="225" y="28"/>
                  <a:pt x="230" y="38"/>
                </a:cubicBezTo>
                <a:cubicBezTo>
                  <a:pt x="247" y="76"/>
                  <a:pt x="258" y="123"/>
                  <a:pt x="269" y="163"/>
                </a:cubicBezTo>
                <a:cubicBezTo>
                  <a:pt x="257" y="334"/>
                  <a:pt x="306" y="293"/>
                  <a:pt x="211" y="317"/>
                </a:cubicBezTo>
                <a:cubicBezTo>
                  <a:pt x="167" y="328"/>
                  <a:pt x="198" y="326"/>
                  <a:pt x="163" y="326"/>
                </a:cubicBezTo>
                <a:close/>
              </a:path>
            </a:pathLst>
          </a:custGeom>
          <a:solidFill>
            <a:srgbClr val="ffff99">
              <a:alpha val="2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2066760" y="4419720"/>
            <a:ext cx="1103400" cy="409320"/>
          </a:xfrm>
          <a:custGeom>
            <a:avLst/>
            <a:gdLst/>
            <a:ahLst/>
            <a:rect l="l" t="t" r="r" b="b"/>
            <a:pathLst>
              <a:path w="695" h="258">
                <a:moveTo>
                  <a:pt x="522" y="230"/>
                </a:moveTo>
                <a:cubicBezTo>
                  <a:pt x="416" y="258"/>
                  <a:pt x="367" y="235"/>
                  <a:pt x="263" y="221"/>
                </a:cubicBezTo>
                <a:cubicBezTo>
                  <a:pt x="205" y="201"/>
                  <a:pt x="141" y="201"/>
                  <a:pt x="80" y="192"/>
                </a:cubicBezTo>
                <a:cubicBezTo>
                  <a:pt x="0" y="70"/>
                  <a:pt x="184" y="32"/>
                  <a:pt x="263" y="19"/>
                </a:cubicBezTo>
                <a:cubicBezTo>
                  <a:pt x="285" y="15"/>
                  <a:pt x="308" y="13"/>
                  <a:pt x="330" y="10"/>
                </a:cubicBezTo>
                <a:cubicBezTo>
                  <a:pt x="349" y="7"/>
                  <a:pt x="369" y="3"/>
                  <a:pt x="388" y="0"/>
                </a:cubicBezTo>
                <a:cubicBezTo>
                  <a:pt x="442" y="3"/>
                  <a:pt x="497" y="2"/>
                  <a:pt x="551" y="10"/>
                </a:cubicBezTo>
                <a:cubicBezTo>
                  <a:pt x="577" y="14"/>
                  <a:pt x="587" y="41"/>
                  <a:pt x="599" y="58"/>
                </a:cubicBezTo>
                <a:cubicBezTo>
                  <a:pt x="631" y="103"/>
                  <a:pt x="665" y="146"/>
                  <a:pt x="695" y="192"/>
                </a:cubicBezTo>
                <a:cubicBezTo>
                  <a:pt x="692" y="202"/>
                  <a:pt x="694" y="216"/>
                  <a:pt x="685" y="221"/>
                </a:cubicBezTo>
                <a:cubicBezTo>
                  <a:pt x="651" y="238"/>
                  <a:pt x="560" y="240"/>
                  <a:pt x="522" y="230"/>
                </a:cubicBezTo>
                <a:close/>
              </a:path>
            </a:pathLst>
          </a:custGeom>
          <a:solidFill>
            <a:srgbClr val="ffff99">
              <a:alpha val="37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5807160" y="1401840"/>
            <a:ext cx="471240" cy="996840"/>
          </a:xfrm>
          <a:custGeom>
            <a:avLst/>
            <a:gdLst/>
            <a:ahLst/>
            <a:rect l="l" t="t" r="r" b="b"/>
            <a:pathLst>
              <a:path w="297" h="628">
                <a:moveTo>
                  <a:pt x="134" y="586"/>
                </a:moveTo>
                <a:cubicBezTo>
                  <a:pt x="42" y="562"/>
                  <a:pt x="137" y="593"/>
                  <a:pt x="76" y="557"/>
                </a:cubicBezTo>
                <a:cubicBezTo>
                  <a:pt x="52" y="543"/>
                  <a:pt x="0" y="519"/>
                  <a:pt x="0" y="519"/>
                </a:cubicBezTo>
                <a:cubicBezTo>
                  <a:pt x="5" y="398"/>
                  <a:pt x="8" y="282"/>
                  <a:pt x="28" y="163"/>
                </a:cubicBezTo>
                <a:cubicBezTo>
                  <a:pt x="28" y="160"/>
                  <a:pt x="43" y="102"/>
                  <a:pt x="48" y="96"/>
                </a:cubicBezTo>
                <a:cubicBezTo>
                  <a:pt x="55" y="87"/>
                  <a:pt x="68" y="85"/>
                  <a:pt x="76" y="77"/>
                </a:cubicBezTo>
                <a:cubicBezTo>
                  <a:pt x="110" y="43"/>
                  <a:pt x="125" y="17"/>
                  <a:pt x="172" y="0"/>
                </a:cubicBezTo>
                <a:cubicBezTo>
                  <a:pt x="234" y="50"/>
                  <a:pt x="227" y="60"/>
                  <a:pt x="259" y="125"/>
                </a:cubicBezTo>
                <a:cubicBezTo>
                  <a:pt x="264" y="135"/>
                  <a:pt x="273" y="143"/>
                  <a:pt x="278" y="154"/>
                </a:cubicBezTo>
                <a:cubicBezTo>
                  <a:pt x="286" y="172"/>
                  <a:pt x="297" y="211"/>
                  <a:pt x="297" y="211"/>
                </a:cubicBezTo>
                <a:cubicBezTo>
                  <a:pt x="292" y="329"/>
                  <a:pt x="294" y="394"/>
                  <a:pt x="278" y="499"/>
                </a:cubicBezTo>
                <a:cubicBezTo>
                  <a:pt x="274" y="525"/>
                  <a:pt x="279" y="559"/>
                  <a:pt x="259" y="576"/>
                </a:cubicBezTo>
                <a:cubicBezTo>
                  <a:pt x="246" y="587"/>
                  <a:pt x="227" y="589"/>
                  <a:pt x="211" y="595"/>
                </a:cubicBezTo>
                <a:cubicBezTo>
                  <a:pt x="181" y="627"/>
                  <a:pt x="156" y="628"/>
                  <a:pt x="134" y="586"/>
                </a:cubicBezTo>
                <a:close/>
              </a:path>
            </a:pathLst>
          </a:custGeom>
          <a:solidFill>
            <a:srgbClr val="ffff99">
              <a:alpha val="32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208480" y="4389480"/>
            <a:ext cx="1524240" cy="852480"/>
          </a:xfrm>
          <a:custGeom>
            <a:avLst/>
            <a:gdLst/>
            <a:ahLst/>
            <a:rect l="l" t="t" r="r" b="b"/>
            <a:pathLst>
              <a:path w="960" h="537">
                <a:moveTo>
                  <a:pt x="511" y="461"/>
                </a:moveTo>
                <a:cubicBezTo>
                  <a:pt x="421" y="482"/>
                  <a:pt x="336" y="484"/>
                  <a:pt x="242" y="489"/>
                </a:cubicBezTo>
                <a:cubicBezTo>
                  <a:pt x="172" y="486"/>
                  <a:pt x="92" y="515"/>
                  <a:pt x="31" y="480"/>
                </a:cubicBezTo>
                <a:cubicBezTo>
                  <a:pt x="0" y="462"/>
                  <a:pt x="36" y="409"/>
                  <a:pt x="41" y="374"/>
                </a:cubicBezTo>
                <a:cubicBezTo>
                  <a:pt x="49" y="316"/>
                  <a:pt x="137" y="256"/>
                  <a:pt x="185" y="221"/>
                </a:cubicBezTo>
                <a:cubicBezTo>
                  <a:pt x="213" y="102"/>
                  <a:pt x="169" y="260"/>
                  <a:pt x="223" y="153"/>
                </a:cubicBezTo>
                <a:cubicBezTo>
                  <a:pt x="241" y="118"/>
                  <a:pt x="220" y="84"/>
                  <a:pt x="261" y="57"/>
                </a:cubicBezTo>
                <a:cubicBezTo>
                  <a:pt x="277" y="46"/>
                  <a:pt x="300" y="51"/>
                  <a:pt x="319" y="48"/>
                </a:cubicBezTo>
                <a:cubicBezTo>
                  <a:pt x="374" y="20"/>
                  <a:pt x="379" y="10"/>
                  <a:pt x="444" y="0"/>
                </a:cubicBezTo>
                <a:cubicBezTo>
                  <a:pt x="521" y="3"/>
                  <a:pt x="598" y="1"/>
                  <a:pt x="674" y="9"/>
                </a:cubicBezTo>
                <a:cubicBezTo>
                  <a:pt x="694" y="11"/>
                  <a:pt x="732" y="29"/>
                  <a:pt x="732" y="29"/>
                </a:cubicBezTo>
                <a:cubicBezTo>
                  <a:pt x="745" y="69"/>
                  <a:pt x="769" y="105"/>
                  <a:pt x="780" y="144"/>
                </a:cubicBezTo>
                <a:cubicBezTo>
                  <a:pt x="796" y="204"/>
                  <a:pt x="792" y="285"/>
                  <a:pt x="857" y="307"/>
                </a:cubicBezTo>
                <a:cubicBezTo>
                  <a:pt x="913" y="363"/>
                  <a:pt x="893" y="336"/>
                  <a:pt x="924" y="384"/>
                </a:cubicBezTo>
                <a:cubicBezTo>
                  <a:pt x="928" y="401"/>
                  <a:pt x="960" y="482"/>
                  <a:pt x="933" y="509"/>
                </a:cubicBezTo>
                <a:cubicBezTo>
                  <a:pt x="919" y="523"/>
                  <a:pt x="895" y="522"/>
                  <a:pt x="876" y="528"/>
                </a:cubicBezTo>
                <a:cubicBezTo>
                  <a:pt x="866" y="531"/>
                  <a:pt x="847" y="537"/>
                  <a:pt x="847" y="537"/>
                </a:cubicBezTo>
                <a:cubicBezTo>
                  <a:pt x="771" y="533"/>
                  <a:pt x="582" y="532"/>
                  <a:pt x="511" y="461"/>
                </a:cubicBezTo>
                <a:close/>
              </a:path>
            </a:pathLst>
          </a:custGeom>
          <a:solidFill>
            <a:srgbClr val="ffff99">
              <a:alpha val="30000"/>
            </a:srgbClr>
          </a:solidFill>
          <a:ln w="93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5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5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5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5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5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900" spc="-1" strike="noStrike">
                <a:solidFill>
                  <a:srgbClr val="ccccff"/>
                </a:solidFill>
                <a:latin typeface="Arial"/>
              </a:rPr>
              <a:t>Efficient XPath evaluation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340" name=""/>
          <p:cNvGraphicFramePr/>
          <p:nvPr/>
        </p:nvGraphicFramePr>
        <p:xfrm>
          <a:off x="826920" y="4365720"/>
          <a:ext cx="3313440" cy="2022480"/>
        </p:xfrm>
        <a:graphic>
          <a:graphicData uri="http://schemas.openxmlformats.org/drawingml/2006/table">
            <a:tbl>
              <a:tblPr/>
              <a:tblGrid>
                <a:gridCol w="1020960"/>
                <a:gridCol w="1392120"/>
                <a:gridCol w="90036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d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d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4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A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8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B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36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Ｃ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～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41" name=""/>
          <p:cNvSpPr/>
          <p:nvPr/>
        </p:nvSpPr>
        <p:spPr>
          <a:xfrm>
            <a:off x="1653840" y="1844640"/>
            <a:ext cx="6009480" cy="19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1)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要素間の順序の情報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0000"/>
                </a:solidFill>
                <a:latin typeface="Arial"/>
              </a:rPr>
              <a:t>(2)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XMLPGSQL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にパスの情報を明示的に保持するテーブル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付加す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順序情報は効率を考慮し、</a:t>
            </a:r>
            <a:r>
              <a:rPr b="0" lang="en-US" sz="2500" spc="-1" strike="noStrike">
                <a:solidFill>
                  <a:srgbClr val="ffffff"/>
                </a:solidFill>
                <a:latin typeface="Arial"/>
              </a:rPr>
              <a:t>Dewey Order</a:t>
            </a:r>
            <a:r>
              <a:rPr b="0" lang="zh-CN" sz="2500" spc="-1" strike="noStrike">
                <a:solidFill>
                  <a:srgbClr val="ffffff"/>
                </a:solidFill>
                <a:latin typeface="Arial"/>
              </a:rPr>
              <a:t>を用いる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2" name=""/>
          <p:cNvGraphicFramePr/>
          <p:nvPr/>
        </p:nvGraphicFramePr>
        <p:xfrm>
          <a:off x="4140360" y="4365720"/>
          <a:ext cx="3527280" cy="2016000"/>
        </p:xfrm>
        <a:graphic>
          <a:graphicData uri="http://schemas.openxmlformats.org/drawingml/2006/table">
            <a:tbl>
              <a:tblPr/>
              <a:tblGrid>
                <a:gridCol w="1393560"/>
                <a:gridCol w="2133720"/>
              </a:tblGrid>
              <a:tr h="433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順序情報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パス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1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4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1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o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2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3366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7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9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/Student/Name</a:t>
                      </a:r>
                      <a:endParaRPr b="0" lang="en-US" sz="1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777777"/>
                    </a:solidFill>
                  </a:tcPr>
                </a:tc>
              </a:tr>
            </a:tbl>
          </a:graphicData>
        </a:graphic>
      </p:graphicFrame>
      <p:sp>
        <p:nvSpPr>
          <p:cNvPr id="343" name=""/>
          <p:cNvSpPr/>
          <p:nvPr/>
        </p:nvSpPr>
        <p:spPr>
          <a:xfrm>
            <a:off x="450036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6156000" y="3789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4930920" y="6303960"/>
            <a:ext cx="1944720" cy="368280"/>
          </a:xfrm>
          <a:prstGeom prst="rect">
            <a:avLst/>
          </a:prstGeom>
          <a:solidFill>
            <a:srgbClr val="4f893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XpSQL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で追加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144520" y="1413000"/>
            <a:ext cx="1222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を効率よく処理する為に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Labeling (Dewey Order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539640" y="5516640"/>
            <a:ext cx="849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親の番号の後ろに兄弟間の順序を付けたもの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特徴として，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Range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や文書順よりも更新時性能に優れ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349" name=""/>
          <p:cNvGraphicFramePr/>
          <p:nvPr/>
        </p:nvGraphicFramePr>
        <p:xfrm>
          <a:off x="1546200" y="1971720"/>
          <a:ext cx="4897440" cy="3257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46200" y="1971720"/>
                    <a:ext cx="4897440" cy="3257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1" name=""/>
          <p:cNvSpPr/>
          <p:nvPr/>
        </p:nvSpPr>
        <p:spPr>
          <a:xfrm>
            <a:off x="4428000" y="2116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2916720" y="3124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4498920" y="3195720"/>
            <a:ext cx="31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796360" y="3195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053080" y="4276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08720" y="4275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5219640" y="4276800"/>
            <a:ext cx="28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924720" y="48531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3060720" y="312408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464508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40360" y="319572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197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385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5365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068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241308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06872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5581800" y="427500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1800" spc="-1" strike="noStrike">
                <a:solidFill>
                  <a:srgbClr val="008000"/>
                </a:solidFill>
                <a:latin typeface="Arial"/>
              </a:rPr>
              <a:t>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4284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8000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500720" y="4851360"/>
            <a:ext cx="371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cc"/>
                </a:solidFill>
                <a:latin typeface="Arial"/>
              </a:rPr>
              <a:t>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4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5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0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6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9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4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3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6" dur="5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2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5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6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9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2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456840" y="476280"/>
            <a:ext cx="754380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Dewey Order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を用いた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XPath Axis</a:t>
            </a:r>
            <a:r>
              <a:rPr b="1" lang="ja-JP" sz="3100" spc="-1" strike="noStrike">
                <a:solidFill>
                  <a:srgbClr val="ccccff"/>
                </a:solidFill>
                <a:latin typeface="Arial"/>
              </a:rPr>
              <a:t>の評価</a:t>
            </a:r>
            <a:endParaRPr b="1" lang="en-US" sz="31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451240" y="1413000"/>
            <a:ext cx="1728720" cy="2160360"/>
          </a:xfrm>
          <a:prstGeom prst="ellipse">
            <a:avLst/>
          </a:prstGeom>
          <a:solidFill>
            <a:srgbClr val="969696">
              <a:alpha val="7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803240" y="3357720"/>
            <a:ext cx="1150920" cy="863280"/>
          </a:xfrm>
          <a:prstGeom prst="ellipse">
            <a:avLst/>
          </a:prstGeom>
          <a:solidFill>
            <a:srgbClr val="969696">
              <a:alpha val="24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306520" y="2349360"/>
            <a:ext cx="1297080" cy="935280"/>
          </a:xfrm>
          <a:prstGeom prst="ellipse">
            <a:avLst/>
          </a:prstGeom>
          <a:solidFill>
            <a:srgbClr val="969696">
              <a:alpha val="37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2522520" y="4365720"/>
            <a:ext cx="1081080" cy="863640"/>
          </a:xfrm>
          <a:prstGeom prst="ellipse">
            <a:avLst/>
          </a:prstGeom>
          <a:solidFill>
            <a:srgbClr val="969696">
              <a:alpha val="36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3890880" y="1844640"/>
            <a:ext cx="2376720" cy="3816360"/>
          </a:xfrm>
          <a:prstGeom prst="ellipse">
            <a:avLst/>
          </a:prstGeom>
          <a:solidFill>
            <a:srgbClr val="969696">
              <a:alpha val="33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3962520" y="3213000"/>
            <a:ext cx="936360" cy="1224000"/>
          </a:xfrm>
          <a:prstGeom prst="ellipse">
            <a:avLst/>
          </a:prstGeom>
          <a:solidFill>
            <a:srgbClr val="8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459240" y="17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417996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2738520" y="2565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3964320" y="19177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324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685040" y="2852640"/>
            <a:ext cx="497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2163600" y="357336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3171960" y="3573360"/>
            <a:ext cx="50472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281160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4971960" y="3502080"/>
            <a:ext cx="50508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446724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5330880" y="451008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2524320" y="386064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459240" y="386064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259740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5330880" y="3789360"/>
            <a:ext cx="691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425304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5548680" y="501336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2.1.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3171960" y="2276640"/>
            <a:ext cx="35856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3890880" y="2205000"/>
            <a:ext cx="432000" cy="360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 flipH="1">
            <a:off x="2522160" y="3068640"/>
            <a:ext cx="36036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2954160" y="3068640"/>
            <a:ext cx="43344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3171600" y="4076640"/>
            <a:ext cx="21564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 flipH="1">
            <a:off x="4827600" y="4005360"/>
            <a:ext cx="28728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5259240" y="4005360"/>
            <a:ext cx="216000" cy="5047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4538520" y="3068640"/>
            <a:ext cx="576360" cy="4334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4035600" y="3573360"/>
            <a:ext cx="504720" cy="503280"/>
          </a:xfrm>
          <a:prstGeom prst="ellipse">
            <a:avLst/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4251240" y="3860640"/>
            <a:ext cx="692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.1.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3027240" y="3068640"/>
            <a:ext cx="1079640" cy="57636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6700680" y="2922480"/>
            <a:ext cx="505080" cy="503280"/>
          </a:xfrm>
          <a:prstGeom prst="ellipse">
            <a:avLst/>
          </a:prstGeom>
          <a:solidFill>
            <a:srgbClr val="666699"/>
          </a:solidFill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7362720" y="2995560"/>
            <a:ext cx="86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</a:rPr>
              <a:t>起点ノード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2021040" y="2133720"/>
            <a:ext cx="87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are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5546520" y="1844640"/>
            <a:ext cx="11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4826160" y="4076640"/>
            <a:ext cx="2003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follow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1373400" y="4869000"/>
            <a:ext cx="1450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descendan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795240" y="4149720"/>
            <a:ext cx="208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preceding-sibl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3677400" y="1413000"/>
            <a:ext cx="1131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0033"/>
                </a:solidFill>
                <a:latin typeface="Arial"/>
              </a:rPr>
              <a:t>ancesto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468360" y="5899680"/>
            <a:ext cx="8207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例えば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descendant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を選択する場合，親の番号を持ち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つまり親までの経路を辿っているノード</a:t>
            </a:r>
            <a:r>
              <a:rPr b="0" lang="en-US" sz="22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200" spc="-1" strike="noStrike">
                <a:solidFill>
                  <a:srgbClr val="ffffff"/>
                </a:solidFill>
                <a:latin typeface="Arial"/>
              </a:rPr>
              <a:t>で，次元数が親の番号より大きいものを抽出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"/>
          <p:cNvSpPr/>
          <p:nvPr/>
        </p:nvSpPr>
        <p:spPr>
          <a:xfrm>
            <a:off x="913680" y="333360"/>
            <a:ext cx="59720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XPath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処理システムの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	</a:t>
            </a:r>
            <a:r>
              <a:rPr b="0" lang="ja-JP" sz="4000" spc="-1" strike="noStrike">
                <a:solidFill>
                  <a:srgbClr val="ccccff"/>
                </a:solidFill>
                <a:latin typeface="Arial"/>
              </a:rPr>
              <a:t>アーキテクチャ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250920" y="2349360"/>
            <a:ext cx="4897440" cy="2745360"/>
          </a:xfrm>
          <a:prstGeom prst="rect">
            <a:avLst/>
          </a:prstGeom>
          <a:solidFill>
            <a:srgbClr val="666699">
              <a:alpha val="53000"/>
            </a:srgbClr>
          </a:solidFill>
          <a:ln w="9360">
            <a:solidFill>
              <a:srgbClr val="c0c0c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cc0000"/>
                </a:solidFill>
                <a:latin typeface="Arial"/>
              </a:rPr>
              <a:t>　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次の操作を行う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を作成し実行する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A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パス情報を用いてフィルタリン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B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順序情報を用いて結果を求め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6156360" y="5300640"/>
            <a:ext cx="1727280" cy="1368360"/>
          </a:xfrm>
          <a:prstGeom prst="can">
            <a:avLst>
              <a:gd name="adj" fmla="val 25000"/>
            </a:avLst>
          </a:prstGeom>
          <a:solidFill>
            <a:srgbClr val="cc99ff">
              <a:alpha val="3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5435640" y="3141720"/>
            <a:ext cx="3240000" cy="1511280"/>
          </a:xfrm>
          <a:prstGeom prst="rect">
            <a:avLst/>
          </a:prstGeom>
          <a:solidFill>
            <a:srgbClr val="ccffff">
              <a:alpha val="50000"/>
            </a:srgbClr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20" name=""/>
          <p:cNvGraphicFramePr/>
          <p:nvPr/>
        </p:nvGraphicFramePr>
        <p:xfrm>
          <a:off x="6443640" y="5805360"/>
          <a:ext cx="1225440" cy="609840"/>
        </p:xfrm>
        <a:graphic>
          <a:graphicData uri="http://schemas.openxmlformats.org/drawingml/2006/table">
            <a:tbl>
              <a:tblPr/>
              <a:tblGrid>
                <a:gridCol w="612720"/>
                <a:gridCol w="612720"/>
              </a:tblGrid>
              <a:tr h="28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bf9a3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15192b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fbf9a3"/>
                    </a:solidFill>
                  </a:tcPr>
                </a:tc>
              </a:tr>
            </a:tbl>
          </a:graphicData>
        </a:graphic>
      </p:graphicFrame>
      <p:sp>
        <p:nvSpPr>
          <p:cNvPr id="421" name=""/>
          <p:cNvSpPr/>
          <p:nvPr/>
        </p:nvSpPr>
        <p:spPr>
          <a:xfrm>
            <a:off x="5796000" y="3715560"/>
            <a:ext cx="1944720" cy="779400"/>
          </a:xfrm>
          <a:prstGeom prst="roundRect">
            <a:avLst>
              <a:gd name="adj" fmla="val 16667"/>
            </a:avLst>
          </a:prstGeom>
          <a:solidFill>
            <a:srgbClr val="4f893d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1" lang="zh-CN" sz="2000" spc="-1" strike="noStrike">
                <a:solidFill>
                  <a:srgbClr val="ffffff"/>
                </a:solidFill>
                <a:latin typeface="Arial"/>
              </a:rPr>
              <a:t>生成部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(XPath2SQL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5721120" y="3144960"/>
            <a:ext cx="2180160" cy="459720"/>
          </a:xfrm>
          <a:prstGeom prst="rect">
            <a:avLst/>
          </a:prstGeom>
          <a:solidFill>
            <a:srgbClr val="6666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処理システ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372360" y="4581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300720" y="2349360"/>
            <a:ext cx="360360" cy="576360"/>
          </a:xfrm>
          <a:prstGeom prst="down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7596360" y="4581360"/>
            <a:ext cx="360360" cy="576360"/>
          </a:xfrm>
          <a:prstGeom prst="upArrow">
            <a:avLst>
              <a:gd name="adj1" fmla="val 50000"/>
              <a:gd name="adj2" fmla="val 39985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7524720" y="2349360"/>
            <a:ext cx="433440" cy="576360"/>
          </a:xfrm>
          <a:prstGeom prst="upArrow">
            <a:avLst>
              <a:gd name="adj1" fmla="val 50000"/>
              <a:gd name="adj2" fmla="val 33243"/>
            </a:avLst>
          </a:prstGeom>
          <a:solidFill>
            <a:srgbClr val="00808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6661800" y="53006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RD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802840" y="1773360"/>
            <a:ext cx="1148400" cy="52056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5725800" y="4724280"/>
            <a:ext cx="70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ccff"/>
                </a:solidFill>
                <a:latin typeface="Arial"/>
              </a:rPr>
              <a:t>SQ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7580160" y="1773360"/>
            <a:ext cx="546480" cy="459720"/>
          </a:xfrm>
          <a:prstGeom prst="rect">
            <a:avLst/>
          </a:prstGeom>
          <a:noFill/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結果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 rot="16200000">
            <a:off x="3709080" y="3788640"/>
            <a:ext cx="3167280" cy="288720"/>
          </a:xfrm>
          <a:custGeom>
            <a:avLst/>
            <a:gdLst>
              <a:gd name="textAreaLeft" fmla="*/ 696240 w 3167280"/>
              <a:gd name="textAreaRight" fmla="*/ 2471040 w 3167280"/>
              <a:gd name="textAreaTop" fmla="*/ 63360 h 288720"/>
              <a:gd name="textAreaBottom" fmla="*/ 225360 h 288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16200" y="21600"/>
                </a:lnTo>
                <a:lnTo>
                  <a:pt x="5400" y="21600"/>
                </a:lnTo>
                <a:close/>
              </a:path>
            </a:pathLst>
          </a:custGeom>
          <a:solidFill>
            <a:srgbClr val="666699">
              <a:alpha val="5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5294160" y="1916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581440" y="501336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8029440" y="2492280"/>
            <a:ext cx="55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(3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3" dur="indefinite" restart="never" nodeType="tmRoot">
          <p:childTnLst>
            <p:seq>
              <p:cTn id="324" dur="indefinite" nodeType="mainSeq">
                <p:childTnLst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9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"/>
          <p:cNvSpPr/>
          <p:nvPr/>
        </p:nvSpPr>
        <p:spPr>
          <a:xfrm>
            <a:off x="539640" y="1413000"/>
            <a:ext cx="7129440" cy="5040360"/>
          </a:xfrm>
          <a:prstGeom prst="rect">
            <a:avLst/>
          </a:prstGeom>
          <a:noFill/>
          <a:ln w="28440">
            <a:solidFill>
              <a:srgbClr val="99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74160" rIns="74160" tIns="9000" bIns="90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SELECT DISTIN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docid, xn3.i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F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3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2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node xn1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ml_path xp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W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p0.path_exp = '#/PLAY#%/ACT'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1.id = xp0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_int_following(xp2.d_order,xp0.d_order)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id = xp2.ref_node AN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    </a:t>
            </a:r>
            <a:r>
              <a:rPr b="0" lang="ja-JP" sz="2400" spc="-1" strike="noStrike">
                <a:solidFill>
                  <a:srgbClr val="ffffff"/>
                </a:solidFill>
                <a:latin typeface="Trebuchet MS"/>
                <a:ea typeface="HG創英角ﾎﾟｯﾌﾟ体"/>
              </a:rPr>
              <a:t>xn3.kind =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91200" y="475200"/>
            <a:ext cx="6670440" cy="581400"/>
          </a:xfrm>
          <a:prstGeom prst="rect">
            <a:avLst/>
          </a:prstGeom>
          <a:solidFill>
            <a:srgbClr val="4f893d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問合せ </a:t>
            </a:r>
            <a:r>
              <a:rPr b="0" lang="ja-JP" sz="3200" spc="-1" strike="noStrike">
                <a:solidFill>
                  <a:srgbClr val="ffffff"/>
                </a:solidFill>
                <a:latin typeface="Arial"/>
              </a:rPr>
              <a:t>/PLAY//ACT/following::*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ccccff"/>
                </a:solidFill>
                <a:latin typeface="Arial"/>
              </a:rPr>
              <a:t>実装した関数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468360" y="2060640"/>
            <a:ext cx="822960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2SQ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SQL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に変換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4f893d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000" spc="-1" strike="noStrike">
                <a:solidFill>
                  <a:srgbClr val="ffffff"/>
                </a:solidFill>
                <a:latin typeface="Arial"/>
              </a:rPr>
              <a:t>XPath_EVA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XPath</a:t>
            </a: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問合せを評価す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Ｆ</a:t>
            </a:r>
            <a:r>
              <a:rPr b="0" lang="ja-JP" sz="2600" spc="-1" strike="noStrike">
                <a:solidFill>
                  <a:srgbClr val="ffffff"/>
                </a:solidFill>
                <a:latin typeface="Arial"/>
              </a:rPr>
              <a:t>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809640" y="1739880"/>
            <a:ext cx="6858000" cy="609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826920" y="3860640"/>
            <a:ext cx="6624720" cy="5050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"/>
          <p:cNvSpPr/>
          <p:nvPr/>
        </p:nvSpPr>
        <p:spPr>
          <a:xfrm>
            <a:off x="397800" y="2205000"/>
            <a:ext cx="841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lect xpath2sq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98880" y="3573360"/>
            <a:ext cx="8396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*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site/open_auctions/open_auction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471600" y="5373720"/>
            <a:ext cx="3681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lect toXML(id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 xpath_eval('/top'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1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79760" y="1700280"/>
            <a:ext cx="3023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する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SQ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への変換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956880" y="3068640"/>
            <a:ext cx="341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マッチしたノードを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866520" y="4869000"/>
            <a:ext cx="372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Path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式を評価して、結果を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XML</a:t>
            </a:r>
            <a:r>
              <a:rPr b="0" lang="ja-JP" sz="1800" spc="-1" strike="noStrike">
                <a:solidFill>
                  <a:srgbClr val="ffffcc"/>
                </a:solidFill>
                <a:latin typeface="Arial"/>
              </a:rPr>
              <a:t>として返す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Usage(2)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971640" y="1916280"/>
            <a:ext cx="6119640" cy="43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begin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UPD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SE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alue = 'hoge'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FR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path_eval('/PLAY/text()[1]') as Q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WHER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xml_node.id = Q.id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9933"/>
                </a:solidFill>
                <a:latin typeface="Arial"/>
              </a:rPr>
              <a:t>commit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/>
          </p:nvPr>
        </p:nvSpPr>
        <p:spPr>
          <a:xfrm>
            <a:off x="1908000" y="3080880"/>
            <a:ext cx="540072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100" spc="-1" strike="noStrike">
                <a:solidFill>
                  <a:srgbClr val="ffffff"/>
                </a:solidFill>
                <a:latin typeface="Arial"/>
              </a:rPr>
              <a:t>demonstration</a:t>
            </a:r>
            <a:r>
              <a:rPr b="0" lang="en-US" sz="4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684360" y="476280"/>
            <a:ext cx="6912000" cy="58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ccccff"/>
                </a:solidFill>
                <a:latin typeface="Arial"/>
              </a:rPr>
              <a:t>Other features</a:t>
            </a:r>
            <a:endParaRPr b="1" lang="en-US" sz="35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663480" y="1706400"/>
            <a:ext cx="57801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611280" y="1268280"/>
            <a:ext cx="8137440" cy="52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DOM Level 2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をサポート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(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Persistent</a:t>
            </a:r>
            <a:r>
              <a:rPr b="0" lang="ja-JP" sz="1800" spc="-1" strike="noStrike">
                <a:solidFill>
                  <a:srgbClr val="ff6600"/>
                </a:solidFill>
                <a:latin typeface="Arial"/>
              </a:rPr>
              <a:t> </a:t>
            </a:r>
            <a:r>
              <a:rPr b="1" lang="ja-JP" sz="1800" spc="-1" strike="noStrike">
                <a:solidFill>
                  <a:srgbClr val="ff6600"/>
                </a:solidFill>
                <a:latin typeface="Arial"/>
              </a:rPr>
              <a:t>DOM</a:t>
            </a:r>
            <a:r>
              <a:rPr b="0" lang="ja-JP" sz="1800" spc="-1" strike="noStrike">
                <a:solidFill>
                  <a:srgbClr val="6699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createElem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reateElement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1,’tagname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DOM retriev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getElementsByTagname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3, ‘play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XPath 1.0(Location XPath)</a:t>
            </a: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の大部分を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Evaluate a XPath expres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id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play/title[2]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cc00"/>
                </a:solidFill>
                <a:latin typeface="Arial"/>
                <a:ea typeface="ＭＳ Ｐゴシック"/>
              </a:rPr>
              <a:t>Retrieve with XML forma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elect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oxm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id) from </a:t>
            </a:r>
            <a:r>
              <a:rPr b="1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xpath_eva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(‘//act’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6699ff"/>
                </a:solidFill>
                <a:latin typeface="Arial"/>
              </a:rPr>
              <a:t>細粒度の部分更新が可能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pdate xml_node Set value = ‘1’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rom xpath_eval(‘//team[name=“Hanshin”]/ranking/text()’) as Q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ere xml_node.id = Q.i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68360" y="1773000"/>
            <a:ext cx="8229600" cy="432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826920" y="4869000"/>
            <a:ext cx="662472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"/>
          <p:cNvSpPr/>
          <p:nvPr/>
        </p:nvSpPr>
        <p:spPr>
          <a:xfrm>
            <a:off x="542880" y="404640"/>
            <a:ext cx="3141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6600"/>
                </a:solidFill>
                <a:latin typeface="Arial"/>
              </a:rPr>
              <a:t>Future View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430640" y="1341360"/>
            <a:ext cx="526608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部分的な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Query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Validation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のサポート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(XML schema or RelaxNG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パフォーマンスの更なる向上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分散データベース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(Remote Query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GIS(G-XML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へのインテグレーションと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PostGIS(OpenGIS)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  <a:ea typeface="ＭＳ Ｐゴシック"/>
              </a:rPr>
              <a:t>との連携を視野に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XML-RPC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など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Web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サービスのサポー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Java, PHP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ライブラリの作成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cc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ja-JP" sz="2400" spc="-1" strike="noStrike">
                <a:solidFill>
                  <a:srgbClr val="ffffcc"/>
                </a:solidFill>
                <a:latin typeface="Arial"/>
              </a:rPr>
              <a:t>ドキュメントの整備と広報活動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900" spc="-1" strike="noStrike">
                <a:solidFill>
                  <a:srgbClr val="ccccff"/>
                </a:solidFill>
                <a:latin typeface="Arial"/>
              </a:rPr>
              <a:t>Persistent DOM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6840" y="4365360"/>
            <a:ext cx="8435880" cy="215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Small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P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 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(PDOM is pre-parsed)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木 トラバースは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メモリアクセスのみの</a:t>
            </a: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の方が早い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Arial"/>
              </a:rPr>
              <a:t>Large documents: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lnSpc>
                <a:spcPct val="90000"/>
              </a:lnSpc>
              <a:spcBef>
                <a:spcPts val="55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ja-JP" sz="2200" spc="-1" strike="noStrike">
                <a:solidFill>
                  <a:srgbClr val="ffffff"/>
                </a:solidFill>
                <a:latin typeface="Arial"/>
              </a:rPr>
              <a:t>はメモリ不足になることがある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395280" y="1916280"/>
            <a:ext cx="7226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は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を読み込むと、それを木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ツリー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とし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メモリ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上に展開し、この木構造に対してアクセスす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1029960" y="3645000"/>
            <a:ext cx="495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P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では，</a:t>
            </a:r>
            <a:r>
              <a:rPr b="0" lang="en-US" sz="2400" spc="-1" strike="noStrike">
                <a:solidFill>
                  <a:srgbClr val="ff9933"/>
                </a:solidFill>
                <a:latin typeface="Arial"/>
              </a:rPr>
              <a:t>DOM</a:t>
            </a:r>
            <a:r>
              <a:rPr b="0" lang="zh-CN" sz="2400" spc="-1" strike="noStrike">
                <a:solidFill>
                  <a:srgbClr val="ff9933"/>
                </a:solidFill>
                <a:latin typeface="Arial"/>
              </a:rPr>
              <a:t>オブジェクトを永続的に扱う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 rot="16200000">
            <a:off x="1384920" y="2871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2804040" y="2997360"/>
            <a:ext cx="31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大きい文書では，メモリ不足に陥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228600" y="3645000"/>
            <a:ext cx="8279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3200" spc="-1" strike="noStrike">
                <a:solidFill>
                  <a:srgbClr val="bbe0e3"/>
                </a:solidFill>
                <a:latin typeface="Arial"/>
                <a:ea typeface="HG創英角ﾎﾟｯﾌﾟ体"/>
              </a:rPr>
              <a:t>Project Site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ffffff"/>
                </a:solidFill>
                <a:latin typeface="Impact"/>
                <a:ea typeface="HG創英角ﾎﾟｯﾌﾟ体"/>
              </a:rPr>
              <a:t>http://gborg.postgresql.org/project/xpsql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1212840" y="2421000"/>
            <a:ext cx="6112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次期メジャー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Version, </a:t>
            </a:r>
            <a:r>
              <a:rPr b="0" lang="ja-JP" sz="2800" spc="-1" strike="noStrike">
                <a:solidFill>
                  <a:srgbClr val="99cc00"/>
                </a:solidFill>
                <a:latin typeface="Arial"/>
              </a:rPr>
              <a:t>XpSQL-NG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構想，開発中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987640" y="4724280"/>
            <a:ext cx="561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bbe0e3"/>
                </a:solidFill>
                <a:latin typeface="Arial"/>
              </a:rPr>
              <a:t>興味がある方はアポイント下さい　</a:t>
            </a:r>
            <a:r>
              <a:rPr b="1" lang="ja-JP" sz="1800" spc="-1" strike="noStrike">
                <a:solidFill>
                  <a:srgbClr val="ffffff"/>
                </a:solidFill>
                <a:latin typeface="Arial"/>
              </a:rPr>
              <a:t>yuin@bb.din.or.j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"/>
          <p:cNvSpPr/>
          <p:nvPr/>
        </p:nvSpPr>
        <p:spPr>
          <a:xfrm>
            <a:off x="900000" y="2276640"/>
            <a:ext cx="7499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finally{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</a:t>
            </a:r>
            <a:r>
              <a:rPr b="0" lang="en-US" sz="3600" spc="-1" strike="noStrike">
                <a:solidFill>
                  <a:srgbClr val="ff9933"/>
                </a:solidFill>
                <a:latin typeface="Arial"/>
              </a:rPr>
              <a:t>Thank you for listening !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echo “Questions ?”;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}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First, why XML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175120" y="2060640"/>
            <a:ext cx="410292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の応用の拡散により、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を効率的に管理す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データベースの需要が拡大し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1503720" y="3357720"/>
            <a:ext cx="164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独自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1835280" y="3357720"/>
            <a:ext cx="791640" cy="502920"/>
            <a:chOff x="1835280" y="3357720"/>
            <a:chExt cx="791640" cy="502920"/>
          </a:xfrm>
        </p:grpSpPr>
        <p:sp>
          <p:nvSpPr>
            <p:cNvPr id="208" name=""/>
            <p:cNvSpPr/>
            <p:nvPr/>
          </p:nvSpPr>
          <p:spPr>
            <a:xfrm>
              <a:off x="1896840" y="3357720"/>
              <a:ext cx="730080" cy="50292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 flipH="1">
              <a:off x="1835280" y="3357720"/>
              <a:ext cx="790560" cy="501840"/>
            </a:xfrm>
            <a:prstGeom prst="line">
              <a:avLst/>
            </a:prstGeom>
            <a:ln w="76320">
              <a:solidFill>
                <a:srgbClr val="cc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3708360" y="3502080"/>
            <a:ext cx="649440" cy="216000"/>
          </a:xfrm>
          <a:prstGeom prst="rightArrow">
            <a:avLst>
              <a:gd name="adj1" fmla="val 50000"/>
              <a:gd name="adj2" fmla="val 75167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5146200" y="3357720"/>
            <a:ext cx="2741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オープンなデータフォーマット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ＭＳ Ｐゴシック"/>
              </a:rPr>
              <a:t>の採用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1314360" y="4581360"/>
            <a:ext cx="53056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 </a:t>
            </a:r>
            <a:r>
              <a:rPr b="0" lang="en-US" sz="2600" spc="-1" strike="noStrike">
                <a:solidFill>
                  <a:srgbClr val="ffffff"/>
                </a:solidFill>
                <a:latin typeface="ＭＳ Ｐゴシック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ＭＳ Ｐゴシック"/>
              </a:rPr>
              <a:t>自体をデータベースとして扱おうという動き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755640" y="5446800"/>
            <a:ext cx="431640" cy="358560"/>
          </a:xfrm>
          <a:prstGeom prst="rightArrow">
            <a:avLst>
              <a:gd name="adj1" fmla="val 50000"/>
              <a:gd name="adj2" fmla="val 30095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1685520" y="5373720"/>
            <a:ext cx="5571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QL, XPath, XQuery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といった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問合せ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XML Schema, Rel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スキーマ言語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DOM SAX 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などのプログラミングインタフェー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6924600" y="3855960"/>
            <a:ext cx="1095120" cy="459720"/>
          </a:xfrm>
          <a:prstGeom prst="rect">
            <a:avLst/>
          </a:prstGeom>
          <a:solidFill>
            <a:srgbClr val="4837c7"/>
          </a:solidFill>
          <a:ln w="9360">
            <a:solidFill>
              <a:srgbClr val="00008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情報の共有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" dur="500"/>
                                        <p:tgtEl>
                                          <p:spTgt spid="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6" dur="5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 Storage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50920" y="1916280"/>
            <a:ext cx="8893080" cy="88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buClr>
                <a:srgbClr val="4f893d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ファイルベースの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文書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データ管理に必要な機能に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　　乏しい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9040" y="2492280"/>
            <a:ext cx="3934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ffffff"/>
                </a:solidFill>
                <a:latin typeface="Arial"/>
              </a:rPr>
              <a:t>XML and databases / Ronald Bourr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063520" y="5303880"/>
            <a:ext cx="4886640" cy="825480"/>
          </a:xfrm>
          <a:prstGeom prst="rect">
            <a:avLst/>
          </a:prstGeom>
          <a:solidFill>
            <a:srgbClr val="4837c7">
              <a:alpha val="16000"/>
            </a:srgbClr>
          </a:solidFill>
          <a:ln w="9360">
            <a:solidFill>
              <a:srgbClr val="ffffff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トランザクション処理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 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複数の文書にまたがった問合せ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ルチユーザアクセス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5435640" y="3068640"/>
            <a:ext cx="577800" cy="50472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Documents"/>
          <p:cNvSpPr/>
          <p:nvPr/>
        </p:nvSpPr>
        <p:spPr>
          <a:xfrm>
            <a:off x="1692360" y="3716280"/>
            <a:ext cx="647640" cy="79380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211640" y="3350520"/>
            <a:ext cx="4176720" cy="1742760"/>
          </a:xfrm>
          <a:prstGeom prst="irregularSeal2">
            <a:avLst/>
          </a:prstGeom>
          <a:solidFill>
            <a:srgbClr val="ff0000">
              <a:alpha val="62000"/>
            </a:srgbClr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XML Storag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718560" y="4699080"/>
            <a:ext cx="1983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文書の利用の増加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3042360" y="3805560"/>
            <a:ext cx="431640" cy="684000"/>
          </a:xfrm>
          <a:prstGeom prst="downArrow">
            <a:avLst>
              <a:gd name="adj1" fmla="val 50000"/>
              <a:gd name="adj2" fmla="val 39616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4701240" y="4699080"/>
            <a:ext cx="320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効率よく管理するシステム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539640" y="3139920"/>
            <a:ext cx="1024200" cy="1152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 rot="16200000">
            <a:off x="1384920" y="625536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2851200" y="6284880"/>
            <a:ext cx="501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RDBMS</a:t>
            </a:r>
            <a:r>
              <a:rPr b="0" lang="zh-CN" sz="2400" spc="-1" strike="noStrike">
                <a:solidFill>
                  <a:srgbClr val="ff6600"/>
                </a:solidFill>
                <a:latin typeface="Arial"/>
              </a:rPr>
              <a:t>の高度のデータ管理機能を用いるアプロー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5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3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Why XML-RDB ?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323640" y="1916280"/>
            <a:ext cx="8351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現在、企業が持つ情報の多くは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DB</a:t>
            </a:r>
            <a:r>
              <a:rPr b="0" lang="zh-CN" sz="2600" spc="-1" strike="noStrike">
                <a:solidFill>
                  <a:srgbClr val="ffffff"/>
                </a:solidFill>
                <a:latin typeface="Arial"/>
              </a:rPr>
              <a:t>に格納されている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XML Native Database Products are sexy, but…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集約機能が不得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部分更新機能が弱い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Native XML databases: a bad idea for data?</a:t>
            </a: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ttp://www-6.ibm.com/jp/developerworks/xml/020201/j_x-xdnat.htm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rot="16200000">
            <a:off x="1168920" y="2655000"/>
            <a:ext cx="287280" cy="539640"/>
          </a:xfrm>
          <a:prstGeom prst="downArrow">
            <a:avLst>
              <a:gd name="adj1" fmla="val 50000"/>
              <a:gd name="adj2" fmla="val 46961"/>
            </a:avLst>
          </a:prstGeom>
          <a:solidFill>
            <a:srgbClr val="008080"/>
          </a:solidFill>
          <a:ln cap="rnd" w="9360">
            <a:solidFill>
              <a:srgbClr val="ffffff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2770920" y="2637000"/>
            <a:ext cx="485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a50021"/>
                </a:solidFill>
                <a:latin typeface="Arial"/>
              </a:rPr>
              <a:t>RDB</a:t>
            </a:r>
            <a:r>
              <a:rPr b="0" lang="zh-CN" sz="2800" spc="-1" strike="noStrike">
                <a:solidFill>
                  <a:srgbClr val="a50021"/>
                </a:solidFill>
                <a:latin typeface="Arial"/>
              </a:rPr>
              <a:t>に格納されたデータとの情報統合は必須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539280" y="692280"/>
            <a:ext cx="4017960" cy="56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ja-JP" sz="4300" spc="-1" strike="noStrike">
                <a:solidFill>
                  <a:srgbClr val="ccccff"/>
                </a:solidFill>
                <a:latin typeface="Arial"/>
              </a:rPr>
              <a:t>PostgreSQL</a:t>
            </a:r>
            <a:endParaRPr b="1" lang="en-US" sz="43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34" name=""/>
          <p:cNvGraphicFramePr/>
          <p:nvPr/>
        </p:nvGraphicFramePr>
        <p:xfrm>
          <a:off x="612720" y="4075200"/>
          <a:ext cx="5832360" cy="15955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ユーザ定義データ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分散データベース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リプリケーショ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 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マルチバイト対応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オープンソース／フリーソフト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35" name=""/>
          <p:cNvGraphicFramePr/>
          <p:nvPr/>
        </p:nvGraphicFramePr>
        <p:xfrm>
          <a:off x="612720" y="5661000"/>
          <a:ext cx="5832360" cy="36036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6036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9999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×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○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5580000" y="260280"/>
            <a:ext cx="1949400" cy="1486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7" name=""/>
          <p:cNvGraphicFramePr/>
          <p:nvPr/>
        </p:nvGraphicFramePr>
        <p:xfrm>
          <a:off x="612720" y="3397320"/>
          <a:ext cx="5832360" cy="679320"/>
        </p:xfrm>
        <a:graphic>
          <a:graphicData uri="http://schemas.openxmlformats.org/drawingml/2006/table">
            <a:tbl>
              <a:tblPr/>
              <a:tblGrid>
                <a:gridCol w="3167280"/>
                <a:gridCol w="1618920"/>
                <a:gridCol w="1046160"/>
              </a:tblGrid>
              <a:tr h="3571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機能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ja-JP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ostgreSQL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商用</a:t>
                      </a:r>
                      <a:r>
                        <a:rPr b="1" lang="en-US" sz="17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B</a:t>
                      </a:r>
                      <a:endParaRPr b="0" lang="en-US" sz="17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15192b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222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ffffff"/>
                          </a:solidFill>
                          <a:latin typeface="ＭＳ Ｐゴシック"/>
                        </a:rPr>
                        <a:t>MVCC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ccffff">
                        <a:alpha val="50000"/>
                      </a:srgbClr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◯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 w="5760">
                      <a:solidFill>
                        <a:srgbClr val="15192b"/>
                      </a:solidFill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500" spc="-1" strike="noStrike">
                          <a:solidFill>
                            <a:srgbClr val="15192b"/>
                          </a:solidFill>
                          <a:latin typeface="Arial"/>
                        </a:rPr>
                        <a:t>△</a:t>
                      </a:r>
                      <a:endParaRPr b="0" lang="en-US" sz="15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15192b"/>
                      </a:solidFill>
                    </a:lnL>
                    <a:lnR>
                      <a:noFill/>
                    </a:lnR>
                    <a:lnT w="5760">
                      <a:solidFill>
                        <a:srgbClr val="15192b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238" name=""/>
          <p:cNvSpPr/>
          <p:nvPr/>
        </p:nvSpPr>
        <p:spPr>
          <a:xfrm>
            <a:off x="1458360" y="1987560"/>
            <a:ext cx="3838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世界中のボランティアが開発に参加してい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オープンソース・ソフトウェア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164360" y="2639520"/>
            <a:ext cx="1584360" cy="1191240"/>
          </a:xfrm>
          <a:prstGeom prst="rect">
            <a:avLst/>
          </a:prstGeom>
          <a:noFill/>
          <a:ln w="9360">
            <a:solidFill>
              <a:srgbClr val="ff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低価格！</a:t>
            </a:r>
            <a:br>
              <a:rPr sz="2400"/>
            </a:b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性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</a:rPr>
              <a:t>高機能！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945840" y="5661000"/>
            <a:ext cx="1678680" cy="703800"/>
          </a:xfrm>
          <a:prstGeom prst="rect">
            <a:avLst/>
          </a:prstGeom>
          <a:solidFill>
            <a:srgbClr val="4f893d">
              <a:alpha val="2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を扱う機能に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乏しい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611000" y="6283440"/>
            <a:ext cx="3688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商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DB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と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PostgreSQL</a:t>
            </a:r>
            <a:r>
              <a:rPr b="0" lang="ja-JP" sz="2000" spc="-1" strike="noStrike">
                <a:solidFill>
                  <a:srgbClr val="ffffff"/>
                </a:solidFill>
                <a:latin typeface="Arial"/>
              </a:rPr>
              <a:t>の機能的な相違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8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3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ff6600"/>
                </a:solidFill>
                <a:latin typeface="Arial"/>
              </a:rPr>
              <a:t>Agenda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68000" y="1773360"/>
            <a:ext cx="8280360" cy="475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開発の背景　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Why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どのように実現したか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How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何ができるか？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o, What ?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評価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erformanc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ffff"/>
                </a:solidFill>
                <a:latin typeface="Arial"/>
              </a:rPr>
              <a:t>今後の展望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ture view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26920" y="2708280"/>
            <a:ext cx="6858000" cy="5047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ccccff"/>
                </a:solidFill>
                <a:latin typeface="Arial"/>
              </a:rPr>
              <a:t>RDB: XML data storage option</a:t>
            </a:r>
            <a:endParaRPr b="1" lang="en-US" sz="3000" spc="-1" strike="noStrike">
              <a:solidFill>
                <a:srgbClr val="ccccff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719000"/>
            <a:ext cx="8507520" cy="494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cc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XML-RDB</a:t>
            </a:r>
            <a:r>
              <a:rPr b="0" lang="ja-JP" sz="2800" spc="-1" strike="noStrike">
                <a:solidFill>
                  <a:srgbClr val="ffffff"/>
                </a:solidFill>
                <a:latin typeface="Arial"/>
              </a:rPr>
              <a:t>のアプローチ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CLOB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Edge-labelled graphs (Florescu &amp; Kossmann)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Monet, Edge, XParent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- 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XMLPGSQ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ath Based Approac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- XRel (</a:t>
            </a: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奈良先端大学院大学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92280" indent="-347760">
              <a:spcBef>
                <a:spcPts val="700"/>
              </a:spcBef>
              <a:buClr>
                <a:srgbClr val="666699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Arial"/>
              </a:rPr>
              <a:t>Persistent DOM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ffffff"/>
                </a:solidFill>
                <a:latin typeface="Arial"/>
              </a:rPr>
              <a:t>- DBDOM (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K. Ari Krupnikov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87480" indent="0">
              <a:spcBef>
                <a:spcPts val="575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GB" sz="2300" spc="-1" strike="noStrike">
                <a:solidFill>
                  <a:srgbClr val="ffffff"/>
                </a:solidFill>
                <a:latin typeface="Arial"/>
              </a:rPr>
              <a:t>URL: 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2"/>
              </a:rPr>
              <a:t>sourceforge.net/projects/dbdom</a:t>
            </a:r>
            <a:r>
              <a:rPr b="0" lang="en-GB" sz="2300" spc="-1" strike="noStrike" u="sng">
                <a:solidFill>
                  <a:srgbClr val="cc9900"/>
                </a:solidFill>
                <a:uFillTx/>
                <a:latin typeface="Arial"/>
                <a:hlinkClick r:id="rId3"/>
              </a:rPr>
              <a:t>/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5192b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title"/>
          </p:nvPr>
        </p:nvSpPr>
        <p:spPr>
          <a:xfrm>
            <a:off x="456840" y="122400"/>
            <a:ext cx="7543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900" spc="-1" strike="noStrike">
                <a:solidFill>
                  <a:srgbClr val="ccccff"/>
                </a:solidFill>
                <a:latin typeface="Arial"/>
              </a:rPr>
              <a:t>XML-RDB mapping</a:t>
            </a:r>
            <a:endParaRPr b="1" lang="en-US" sz="3900" spc="-1" strike="noStrike">
              <a:solidFill>
                <a:srgbClr val="ccccff"/>
              </a:solidFill>
              <a:latin typeface="Arial"/>
            </a:endParaRPr>
          </a:p>
        </p:txBody>
      </p:sp>
      <p:graphicFrame>
        <p:nvGraphicFramePr>
          <p:cNvPr id="248" name=""/>
          <p:cNvGraphicFramePr/>
          <p:nvPr/>
        </p:nvGraphicFramePr>
        <p:xfrm>
          <a:off x="684360" y="2133720"/>
          <a:ext cx="7440480" cy="841320"/>
        </p:xfrm>
        <a:graphic>
          <a:graphicData uri="http://schemas.openxmlformats.org/drawingml/2006/table">
            <a:tbl>
              <a:tblPr/>
              <a:tblGrid>
                <a:gridCol w="2057400"/>
                <a:gridCol w="2214360"/>
                <a:gridCol w="3168720"/>
              </a:tblGrid>
              <a:tr h="442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DB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XM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データモデル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lational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ested Set (Tree)</a:t>
                      </a:r>
                      <a:endParaRPr b="0" lang="en-US" sz="2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4f893d"/>
                    </a:solidFill>
                  </a:tcPr>
                </a:tc>
              </a:tr>
            </a:tbl>
          </a:graphicData>
        </a:graphic>
      </p:graphicFrame>
      <p:sp>
        <p:nvSpPr>
          <p:cNvPr id="249" name=""/>
          <p:cNvSpPr/>
          <p:nvPr/>
        </p:nvSpPr>
        <p:spPr>
          <a:xfrm>
            <a:off x="4280040" y="3213000"/>
            <a:ext cx="3736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モデルの差を埋める仕組み</a:t>
            </a:r>
            <a:r>
              <a:rPr b="0" lang="en-US" sz="2000" spc="-1" strike="noStrike">
                <a:solidFill>
                  <a:srgbClr val="ff6600"/>
                </a:solidFill>
                <a:latin typeface="Arial"/>
              </a:rPr>
              <a:t>(Mapping)</a:t>
            </a:r>
            <a:r>
              <a:rPr b="0" lang="zh-CN" sz="2000" spc="-1" strike="noStrike">
                <a:solidFill>
                  <a:srgbClr val="ff6600"/>
                </a:solidFill>
                <a:latin typeface="Arial"/>
              </a:rPr>
              <a:t>が必要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32080" y="4076640"/>
            <a:ext cx="582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ere are mainly two way. (Yoshikawa et at.2001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1297080" y="4724280"/>
            <a:ext cx="6554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①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Model-mapping Approach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（モデル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静的なデータベーススキーマに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XML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のデータモデルを写像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② </a:t>
            </a:r>
            <a:r>
              <a:rPr b="0" lang="en-US" sz="2400" spc="-1" strike="noStrike">
                <a:solidFill>
                  <a:srgbClr val="ff6600"/>
                </a:solidFill>
                <a:latin typeface="Arial"/>
              </a:rPr>
              <a:t>Structure-mapping Approac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構造写像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zh-CN" sz="2400" spc="-1" strike="noStrike">
                <a:solidFill>
                  <a:srgbClr val="ffffff"/>
                </a:solidFill>
                <a:latin typeface="Arial"/>
              </a:rPr>
              <a:t>マッピング定義を用いて構造を写像する．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07T11:08:32Z</dcterms:created>
  <dc:creator>Macy</dc:creator>
  <dc:description/>
  <dc:language>en-US</dc:language>
  <cp:lastModifiedBy>Macy</cp:lastModifiedBy>
  <dcterms:modified xsi:type="dcterms:W3CDTF">2003-09-28T23:20:19Z</dcterms:modified>
  <cp:revision>92</cp:revision>
  <dc:subject/>
  <dc:title>スライド 1</dc:title>
</cp:coreProperties>
</file>