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5F27-E508-4932-9399-DEFB574DA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94F9-28CF-4C5C-8C86-E3C3EDE18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2213-B444-4500-9092-4F9EC3A2B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BD49-61E5-48D1-99C4-AD5BF59C7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AB77-EECC-4395-A477-570E9E621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CBAA-F7DF-4F79-A3F9-F8E3A0CFA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0B9C-FECF-46C9-B3B2-1E1FF6023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4EDA-7A26-45A2-BD85-46B653530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EE6A-95FC-4C3F-A8D9-1BC8DE674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6C84-9A96-4B2B-B43C-D1ABC1E9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1292-871C-430F-9D32-265F049E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2812-4855-45C8-8258-320A9D2DF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5AC4C-E202-420E-BAA3-E8D9C3393B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X11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転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69228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87640" y="2852640"/>
            <a:ext cx="2448000" cy="86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501336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414972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6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35280" y="206064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1636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43750"/>
              <a:gd name="adj4" fmla="val 1310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2781360"/>
            <a:ext cx="2087640" cy="865080"/>
          </a:xfrm>
          <a:prstGeom prst="wedgeRectCallout">
            <a:avLst>
              <a:gd name="adj1" fmla="val 69314"/>
              <a:gd name="adj2" fmla="val 122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andle_SSH2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WD_received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UTIL_sock_buffered_writ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blocking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2340000" y="4292280"/>
            <a:ext cx="574560" cy="1081080"/>
          </a:xfrm>
          <a:custGeom>
            <a:avLst/>
            <a:gdLst>
              <a:gd name="textAreaLeft" fmla="*/ 76680 w 574560"/>
              <a:gd name="textAreaRight" fmla="*/ 497880 w 57456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4221000"/>
            <a:ext cx="2087640" cy="865440"/>
          </a:xfrm>
          <a:prstGeom prst="wedgeRectCallout">
            <a:avLst>
              <a:gd name="adj1" fmla="val 56768"/>
              <a:gd name="adj2" fmla="val 140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FD_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write_local_connection_buffer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UTIL_sock_write_mor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2852640"/>
            <a:ext cx="2519640" cy="863640"/>
          </a:xfrm>
          <a:prstGeom prst="wedgeRectCallout">
            <a:avLst>
              <a:gd name="adj1" fmla="val -60837"/>
              <a:gd name="adj2" fmla="val 137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_local_connection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channel_sen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send_channel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0536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63462"/>
              <a:gd name="adj4" fmla="val -490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12-10-14T09:23:22Z</dcterms:modified>
  <cp:revision>355</cp:revision>
  <dc:subject/>
  <dc:title>DDEのしくみ</dc:title>
</cp:coreProperties>
</file>