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725D-0F05-4ACD-A016-549404DC0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8938-5A56-432E-9619-D8353F315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4D72-1C8E-4977-8CB1-36628C98F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FB2B-0D40-45A9-8D3A-73CCEE7DA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696B-63B7-4CC0-B2F6-CE75029FA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127D-1D41-48BA-B006-EAB56AA26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18F1-BB14-4B28-8453-078A3BF2C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A965-4E49-45D0-A653-A0731BB0C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C868-8D60-448A-BC94-BF8DC085E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8F29-6894-4B8A-AF6C-00B6B93A9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8483-AB92-49C1-8A4D-182F5AF34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E520-68B1-4A1B-B84C-62BECB212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768AE-2748-4872-8C89-8925C9B638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X11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転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987640" y="692280"/>
            <a:ext cx="2448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H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アプリケーショ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87640" y="2852640"/>
            <a:ext cx="2448000" cy="865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a Te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987640" y="5013360"/>
            <a:ext cx="2448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35280" y="4149720"/>
            <a:ext cx="23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6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635280" y="2060640"/>
            <a:ext cx="23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5280" y="155736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35280" y="371628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716360" y="155736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16360" y="371628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26920" y="1844640"/>
            <a:ext cx="2089440" cy="330120"/>
          </a:xfrm>
          <a:prstGeom prst="borderCallout1">
            <a:avLst>
              <a:gd name="adj1" fmla="val 18750"/>
              <a:gd name="adj2" fmla="val -8333"/>
              <a:gd name="adj3" fmla="val 143750"/>
              <a:gd name="adj4" fmla="val 1310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2781360"/>
            <a:ext cx="2087640" cy="865080"/>
          </a:xfrm>
          <a:prstGeom prst="wedgeRectCallout">
            <a:avLst>
              <a:gd name="adj1" fmla="val 69314"/>
              <a:gd name="adj2" fmla="val 1220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handle_SSH2_channel_data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FWD_received_data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sz="1000" spc="-1" strike="noStrike">
                <a:solidFill>
                  <a:srgbClr val="000000"/>
                </a:solidFill>
                <a:latin typeface="Arial"/>
              </a:rPr>
              <a:t>UTIL_sock_buffered_writ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blocking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2340000" y="4292280"/>
            <a:ext cx="574560" cy="1081080"/>
          </a:xfrm>
          <a:custGeom>
            <a:avLst/>
            <a:gdLst>
              <a:gd name="textAreaLeft" fmla="*/ 76680 w 574560"/>
              <a:gd name="textAreaRight" fmla="*/ 497880 w 574560"/>
              <a:gd name="textAreaTop" fmla="*/ 189000 h 1081080"/>
              <a:gd name="textAreaBottom" fmla="*/ 78372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8000" y="4221000"/>
            <a:ext cx="2087640" cy="865440"/>
          </a:xfrm>
          <a:prstGeom prst="wedgeRectCallout">
            <a:avLst>
              <a:gd name="adj1" fmla="val 56768"/>
              <a:gd name="adj2" fmla="val 140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FD_WR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write_local_connection_buffer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UTIL_sock_write_mor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24360" y="2852640"/>
            <a:ext cx="2519640" cy="863640"/>
          </a:xfrm>
          <a:prstGeom prst="wedgeRectCallout">
            <a:avLst>
              <a:gd name="adj1" fmla="val -60837"/>
              <a:gd name="adj2" fmla="val 1378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D_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d_local_connection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channel_sen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send_channel_data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05360" y="1844640"/>
            <a:ext cx="2089440" cy="330120"/>
          </a:xfrm>
          <a:prstGeom prst="borderCallout1">
            <a:avLst>
              <a:gd name="adj1" fmla="val 18750"/>
              <a:gd name="adj2" fmla="val -8333"/>
              <a:gd name="adj3" fmla="val 163462"/>
              <a:gd name="adj4" fmla="val -490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12-10-14T09:23:22Z</dcterms:modified>
  <cp:revision>355</cp:revision>
  <dc:subject/>
  <dc:title>DDEのしくみ</dc:title>
</cp:coreProperties>
</file>