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1815-5B25-48B5-AFE9-053E986E8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7EB0-BD53-4D5E-B3BC-9DAA74343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C91A-BCDD-40F2-817F-B3C4C7719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ECCD-32AD-445C-BA16-6F9C5ECED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C67A-AE44-441A-9372-F40D5FE49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FCD3-90FF-44B7-8319-2CDAC201D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49CC-E9AB-4AA7-92ED-4EACFAA6C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456B-389B-45CD-A132-25E06C283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DF68-5782-4FE1-8A86-E91D94808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F28E-5250-48BE-A91F-3386AD2F6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C874-BB8A-47B4-851C-8C4627BDE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0294-4EDD-4FFF-8128-775D66903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6DAD0-88F0-4868-B8DA-67D894849B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フロー制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1480" y="1341360"/>
            <a:ext cx="122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使用中およびログ採取時は、バッファへ格納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フルになると、最古のデータから上書きされ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で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の中身を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すべて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クロ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）へ送信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データをすべてリングバッファとして保存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661000"/>
            <a:ext cx="3744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コマンド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ync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、同期されるのは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マクロ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通信間のみ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から大量にパケットが送られてき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きは、データの取りこぼしが発生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1T13:09:57Z</dcterms:modified>
  <cp:revision>157</cp:revision>
  <dc:subject/>
  <dc:title>DDEのしくみ</dc:title>
</cp:coreProperties>
</file>