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E78A7-A0B0-43D2-B2D2-48BB97E02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7FFD3-DEA2-4FA0-A286-AC5971BE7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A38FC-B2C3-4BFB-AABF-A35140B91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B0D3C-1E2F-4F20-AB21-969EEF365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63178-D3C7-4384-87A2-C6ED32930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D1DB0-FCE7-4857-90AE-CA0EF7A3D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5FB63-91E9-4504-AE1A-8016FC35A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15EC7-F435-42A8-9FFB-35D7D1F9A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80A8B-3422-4B6D-A66D-DFA2FBA82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44E93-CDB0-478E-805C-583FE107F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2A788-1A92-4A50-90D0-674D0F4DC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CEFC3-1149-4DB6-8A63-598BB4AD3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62837-C8B7-43F1-9328-0127EAFEDE75}" type="slidenum">
              <a:rPr b="0" lang="ja-JP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 u="sng">
                <a:solidFill>
                  <a:srgbClr val="000000"/>
                </a:solidFill>
                <a:uFillTx/>
                <a:latin typeface="Arial"/>
              </a:rPr>
              <a:t>TeraTerm</a:t>
            </a:r>
            <a:r>
              <a:rPr b="0" lang="ja-JP" sz="1600" spc="-1" strike="noStrike" u="sng">
                <a:solidFill>
                  <a:srgbClr val="000000"/>
                </a:solidFill>
                <a:uFillTx/>
                <a:latin typeface="Arial"/>
              </a:rPr>
              <a:t>ライブラリ構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56000" y="981000"/>
            <a:ext cx="1512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ermpro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067280" y="119700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43280" y="98100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Oniguru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340000" y="836640"/>
            <a:ext cx="3743280" cy="1152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627280" y="155736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TeraTerm</a:t>
            </a: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本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79640" y="4726080"/>
            <a:ext cx="1512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xssh.d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90920" y="494172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067280" y="472608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OpenSS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494172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780000" y="537372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067280" y="515772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zl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780000" y="573408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067280" y="558972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PuT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63640" y="4581360"/>
            <a:ext cx="5616720" cy="1584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979640" y="544500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SSH</a:t>
            </a: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モジュー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0" y="1413000"/>
            <a:ext cx="144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正規表現ライブラ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364000" y="4797360"/>
            <a:ext cx="100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暗号ライブラ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364000" y="5157720"/>
            <a:ext cx="100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圧縮ライブラ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364000" y="5589720"/>
            <a:ext cx="1440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an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連携ライブラ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556000" y="2637000"/>
            <a:ext cx="1512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pmacro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067280" y="28526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643280" y="263700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Oniguru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340000" y="2492280"/>
            <a:ext cx="3743280" cy="1152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627280" y="321300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マクロ本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72000" y="3068640"/>
            <a:ext cx="144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正規表現ライブラ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7T12:48:04Z</dcterms:created>
  <dc:creator>yutaka</dc:creator>
  <dc:description/>
  <dc:language>en-US</dc:language>
  <cp:lastModifiedBy>yutaka</cp:lastModifiedBy>
  <dcterms:modified xsi:type="dcterms:W3CDTF">2008-02-17T15:38:23Z</dcterms:modified>
  <cp:revision>78</cp:revision>
  <dc:subject/>
  <dc:title>TeraTermモジュール構成</dc:title>
</cp:coreProperties>
</file>